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4170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45716-33DF-4256-9AA7-CDD0EBCFB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1240" y="160020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F485-E525-4AD0-A6E3-41C0FE98F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06377-C457-4A21-9BAC-9D7888300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12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68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02440" y="160020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12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68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02440" y="3964320"/>
            <a:ext cx="2728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C5687-15B2-4F4F-8C7E-A3A66CBBA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1240" y="1600200"/>
            <a:ext cx="847548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98DA-9134-490A-9174-A4469EC93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1240" y="1600200"/>
            <a:ext cx="8475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506D-1453-4F56-A737-9C2A6501B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3A5B-8F6B-4E11-84FF-62971E3AE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0BF1-737D-4DD7-B0FA-EC8F66ED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240" y="274320"/>
            <a:ext cx="847548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FE473-3F09-425D-AA35-686E5B27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1392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124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B5F5-A005-4CD4-9BA8-227312C2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1240" y="1600200"/>
            <a:ext cx="41356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13920" y="396432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6F60-E2B6-4048-9209-6DDEE701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124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13920" y="1600200"/>
            <a:ext cx="41356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1240" y="3964320"/>
            <a:ext cx="847548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66CA-01A8-445A-A92B-AB60F90E1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240" y="274320"/>
            <a:ext cx="8475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1240" y="1600200"/>
            <a:ext cx="8475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749640" y="6244920"/>
            <a:ext cx="21970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17680" y="6244920"/>
            <a:ext cx="298260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71240" y="6244920"/>
            <a:ext cx="219708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2721-4BB0-49F1-B155-067E7C4921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raliq@hotmail.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0"/>
          <p:cNvSpPr/>
          <p:nvPr/>
        </p:nvSpPr>
        <p:spPr>
          <a:xfrm>
            <a:off x="0" y="1143000"/>
            <a:ext cx="9418680" cy="380880"/>
          </a:xfrm>
          <a:prstGeom prst="rect">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36"/>
          <p:cNvSpPr/>
          <p:nvPr/>
        </p:nvSpPr>
        <p:spPr>
          <a:xfrm>
            <a:off x="3689280" y="380880"/>
            <a:ext cx="1833480" cy="1781280"/>
          </a:xfrm>
          <a:prstGeom prst="ellipse">
            <a:avLst/>
          </a:prstGeom>
          <a:solidFill>
            <a:srgbClr val="034f8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55"/>
          <p:cNvSpPr/>
          <p:nvPr/>
        </p:nvSpPr>
        <p:spPr>
          <a:xfrm>
            <a:off x="549360" y="2086920"/>
            <a:ext cx="8111880" cy="211932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صكوك الاستثما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تأصيلها ، وضوابطها الشرعية</a:t>
            </a:r>
            <a:r>
              <a:rPr b="1" lang="ar-KW"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ودورها في تمويل البنية التحتية والمشاريع الحيوية</a:t>
            </a:r>
            <a:r>
              <a:rPr b="1" lang="ar-KW" sz="3600" spc="-1" strike="noStrike">
                <a:solidFill>
                  <a:srgbClr val="000000"/>
                </a:solidFill>
                <a:latin typeface="Arial"/>
              </a:rPr>
              <a:t> </a:t>
            </a:r>
            <a:r>
              <a:rPr b="1" lang="ar-KW" sz="1600" spc="-1" strike="noStrike">
                <a:solidFill>
                  <a:srgbClr val="000000"/>
                </a:solidFill>
                <a:latin typeface="Arial"/>
              </a:rPr>
              <a:t> </a:t>
            </a:r>
            <a:r>
              <a:rPr b="1" lang="ar-KW" sz="2400" spc="-1" strike="noStrike">
                <a:solidFill>
                  <a:srgbClr val="000000"/>
                </a:solidFill>
                <a:latin typeface="Arial"/>
              </a:rPr>
              <a:t> </a:t>
            </a:r>
            <a:endParaRPr b="0" lang="en-US" sz="2400" spc="-1" strike="noStrike">
              <a:solidFill>
                <a:srgbClr val="000000"/>
              </a:solidFill>
              <a:latin typeface="Arial"/>
            </a:endParaRPr>
          </a:p>
        </p:txBody>
      </p:sp>
      <p:sp>
        <p:nvSpPr>
          <p:cNvPr id="44" name="PlaceHolder 1"/>
          <p:cNvSpPr>
            <a:spLocks noGrp="1"/>
          </p:cNvSpPr>
          <p:nvPr>
            <p:ph type="subTitle"/>
          </p:nvPr>
        </p:nvSpPr>
        <p:spPr>
          <a:xfrm>
            <a:off x="1255680" y="4343400"/>
            <a:ext cx="7299360" cy="1752480"/>
          </a:xfrm>
          <a:prstGeom prst="rect">
            <a:avLst/>
          </a:prstGeom>
          <a:noFill/>
          <a:ln w="0">
            <a:noFill/>
          </a:ln>
        </p:spPr>
        <p:txBody>
          <a:bodyPr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بقلم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 د . علي مح</a:t>
            </a:r>
            <a:r>
              <a:rPr b="1" lang="ar-QA" sz="2000" spc="-1" strike="noStrike">
                <a:solidFill>
                  <a:srgbClr val="000000"/>
                </a:solidFill>
                <a:latin typeface="Arial"/>
              </a:rPr>
              <a:t>ي</a:t>
            </a:r>
            <a:r>
              <a:rPr b="1" lang="ar-SA" sz="2000" spc="-1" strike="noStrike">
                <a:solidFill>
                  <a:srgbClr val="000000"/>
                </a:solidFill>
                <a:latin typeface="Arial"/>
              </a:rPr>
              <a:t>ى الدين القره داغي</a:t>
            </a:r>
            <a:endParaRPr b="0" lang="en-US" sz="20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ستاذ بجــامـعة قــطـــر ورئيس مجلس أمناء جامعة التنمية البشري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الحـائــــز على جائزة الـدولـــة ، والخبـيــــر بالـــــمجامع الفقهـيــ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وعضــــو المجلـــــس الأوربـــــي للإفــــتاء والبــــــــــــــــــــحــوث</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رئيس لعدد من الهيئات الشرعية</a:t>
            </a:r>
            <a:r>
              <a:rPr b="0" lang="ar-QA" sz="1800" spc="-1" strike="noStrike">
                <a:solidFill>
                  <a:srgbClr val="000000"/>
                </a:solidFill>
                <a:latin typeface="Arial"/>
              </a:rPr>
              <a:t> لشركات التأمين</a:t>
            </a:r>
            <a:r>
              <a:rPr b="0" lang="ar-KW" sz="1800" spc="-1" strike="noStrike">
                <a:solidFill>
                  <a:srgbClr val="000000"/>
                </a:solidFill>
                <a:latin typeface="Arial"/>
              </a:rPr>
              <a:t> </a:t>
            </a:r>
            <a:r>
              <a:rPr b="0" lang="ar-QA" sz="1800" spc="-1" strike="noStrike">
                <a:solidFill>
                  <a:srgbClr val="000000"/>
                </a:solidFill>
                <a:latin typeface="Arial"/>
              </a:rPr>
              <a:t>وال</a:t>
            </a:r>
            <a:r>
              <a:rPr b="0" lang="ar-KW" sz="1800" spc="-1" strike="noStrike">
                <a:solidFill>
                  <a:srgbClr val="000000"/>
                </a:solidFill>
                <a:latin typeface="Arial"/>
              </a:rPr>
              <a:t>مؤسسات المالية الإسلامية</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24"/>
          <p:cNvSpPr/>
          <p:nvPr/>
        </p:nvSpPr>
        <p:spPr>
          <a:xfrm>
            <a:off x="1020600" y="533520"/>
            <a:ext cx="824076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كذلك تعتبر من الأحكام والضوابط الشرعية العامة أيضاً ما يأتي :</a:t>
            </a:r>
            <a:endParaRPr b="0" lang="en-US" sz="2800" spc="-1" strike="noStrike">
              <a:solidFill>
                <a:srgbClr val="000000"/>
              </a:solidFill>
              <a:latin typeface="Arial"/>
            </a:endParaRPr>
          </a:p>
        </p:txBody>
      </p:sp>
      <p:sp>
        <p:nvSpPr>
          <p:cNvPr id="69" name="Rectangle 25"/>
          <p:cNvSpPr/>
          <p:nvPr/>
        </p:nvSpPr>
        <p:spPr>
          <a:xfrm>
            <a:off x="0" y="1434960"/>
            <a:ext cx="91044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ا بد أن تصدر على اساس عقد من عقود الاستثمار الشرعية ، من بيع،وإجارة ،ومشاركة...الخ،وحينئذ تخضع لأحكام هذا العقد وشروطه العام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إذا أريد للصكوك التداول المطلق فيجب أن تكون ممثلة للأعيان ، أو المنافع ، أو الخدمات ، أو الحقوق المستقرة ، أو نحوها ، أو كلها مجتمع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ما الديون في الذمم فلا تجوز صياغة الصكوك منها لأجل التداول المطلق ، لأنه يطبق عليها أحكام التصرف في الديون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صكوك معتبرة بما يمثله من موجودات أو ديون أو نقود ، فيطبق عليها حسب قاعدة الكثرة والغلبة ، أو حسب قاعدة الأصالة والتبعية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نظم عقود إصدار الصكوك العلاقة بين طرفيها ، أي المصدر ، والمكتتب ، وترتب آثار هذه العقود من حقوق والتزامات بين طرفيها بمجرد انعقاد العقد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يتم العقد بالايجاب المتمثل في الاكتتاب ، وبالقبول الذي يتم بموافقة الجهة المصدرة ، من خلال الاعلان عنها ، أو تخصيص الصكوك ، أو نحو ذلك مما يدل على رضاه ، ولا تعتبر نشرة إصدار الصكوك إيجاباً إلاّ إذا تضمنت أنها إيجاب ، وحينئذٍ يكون الاكتتاب قبولاً ، ولكن النشرة هي بيان للشروط التي يلتزم بها المكتتب بمجرد اكتتابه في الصكوك . </a:t>
            </a:r>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Rectangle 24"/>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خصائص صكوك الاستثمار :</a:t>
            </a:r>
            <a:endParaRPr b="0" lang="en-US" sz="2800" spc="-1" strike="noStrike">
              <a:solidFill>
                <a:srgbClr val="000000"/>
              </a:solidFill>
              <a:latin typeface="Arial"/>
            </a:endParaRPr>
          </a:p>
        </p:txBody>
      </p:sp>
      <p:sp>
        <p:nvSpPr>
          <p:cNvPr id="72" name="Rectangle 25"/>
          <p:cNvSpPr/>
          <p:nvPr/>
        </p:nvSpPr>
        <p:spPr>
          <a:xfrm>
            <a:off x="900000" y="534960"/>
            <a:ext cx="81313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صكوك الاستثمار لها قيمة اسمية محددة ، يحددها القانون ، او نشرة الإصدار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صكوك الاستثمار صكوك متساوية في القيمة ، وفي الحقوق والواجبات وفي ملكية الأموال الخاصة ب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صكوك الاستثمار قابلة للتداول من حيث المبدأ (وسيأتي الشروط المطلوبة للتداول وكيفيته).</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عدم قبول الصك للتجزأة في مواجهة الشركة ، وفي حالة أيلولة الصك الواحد لشخصين أو أكثر بسبب الإرث أو نحوه ، فإنه لا بد من الاتفاق على أن من يمثلهم أمام الشركة شخص واحد.</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إن مسؤولية أصحاب الصكوك مسؤولية محددة بقدر بقيمة صكوكهم أي أن كل مالك صك مسؤول بقدر قيمة صك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أن مالك الصك مشارك في موجودات المشروع ، ولذلك له الحق في الرقابة ونحوها ، وحق رفع دعوى المسؤولية على الإداريين والحق في نصيب الأرباح ، والاحتياطات ، والتنازل عن الصك ، والتصرف فيه إلاّ ما يمنعه القانون ، او التزم به من خلال نشرة الإصدار ، وحق الشفعة ، وحق اقتسام موجودات المشروع عند تصفيته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7</a:t>
            </a:r>
            <a:r>
              <a:rPr b="0" lang="ar-QA" sz="1800" spc="-1" strike="noStrike">
                <a:solidFill>
                  <a:srgbClr val="000000"/>
                </a:solidFill>
                <a:latin typeface="Arial"/>
                <a:ea typeface="Simplified Arabic"/>
              </a:rPr>
              <a:t>) أن مالكي الصكوك يشاركون في غنمها حسب الاتفاق المبين في نشرة الإصدار ويتحملون غرمها بنسبة ما يملكه كل واحد منهم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أنها تصدر على أساس عقد شرعي مثل الاستصناع ، أو الإجارة ، أو المضاربة...الخ بضوابط شرعية تنظم إصدارها وتداولها وبقية أحكامها وبالتالي فهي خاضعة لأحكام ذلك العقد .</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4" name="Rectangle 18"/>
          <p:cNvSpPr/>
          <p:nvPr/>
        </p:nvSpPr>
        <p:spPr>
          <a:xfrm>
            <a:off x="0" y="-158040"/>
            <a:ext cx="9418680" cy="6677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مرونتها وصلاحيتها للوساطة المالية ، وتلبية حاجات تمويلية متعددة ، وخضوعها لعوامل السوق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0</a:t>
            </a:r>
            <a:r>
              <a:rPr b="0" lang="ar-QA" sz="1800" spc="-1" strike="noStrike">
                <a:solidFill>
                  <a:srgbClr val="000000"/>
                </a:solidFill>
                <a:latin typeface="Arial"/>
                <a:ea typeface="Simplified Arabic"/>
              </a:rPr>
              <a:t>) أن صكوك الاستثمار تصدر من جهة مالكة للأصول او المنافع والحقوق ترغب في تسييلها عن طريق الصكوك ، أو أنها تجمع حصيلتها للاستثمار ، وليست للاقترا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1</a:t>
            </a:r>
            <a:r>
              <a:rPr b="0" lang="ar-QA" sz="1800" spc="-1" strike="noStrike">
                <a:solidFill>
                  <a:srgbClr val="000000"/>
                </a:solidFill>
                <a:latin typeface="Arial"/>
                <a:ea typeface="Simplified Arabic"/>
              </a:rPr>
              <a:t>) صكوك الاستمثار الإسلامية ترتب مجموعة من العلاقات ، لأنها وإن كانت قائمة على أساس عقد واحد ـ مثل الإجارة ، أو المضاربة أو الاستصناع ـ لكن هناك علاقات متعددة تنظمها  العقود الأخرى مثل الوكالة بأجر ، أو المضاربة ، في حين أن سندات الدين أو القرض أو الخزينة ينظمها عقد واحد وهو عقد الق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مثلاُ في صكوك الـ  تتكون شركة الملك عند تجمع أموال حملة الصكوك إذا كانت مخصصة لمشروع معين ، حيث هم يملكونه على سبيل اشيوع ، وبالتالي تطبق أحكام شركة الملك ، وتكون المؤسسة المالية القائمة بالإصدار فقط وكيلة بالأجر ، والشركة الإدارية المتخصصة هي المضاربة ، وحملة الصكوك هم أرباب المال ، والعقد المنظم لعلاقة الطرفين هو عقد المضارب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جميع صكوك الاستثمار لا تخلو من عقد الوكالة إضافة إلى العقد الأساسي الذي تصدر الصكوك على أساسه ، وينظم علاقة المكتتبين بالمصدر أو بالجهة التي تنفذ المشروع ، فهذا العقد قد يكون عقد مضاربة ، أو مشاركة ، أو استصناع ، أو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كما أن علاقة المؤسسة المالية يتحد على أساس الدور الذي تريده : هل هي مجرد وكالة بالإصدار ؟ أم هي وكالة مع تنفيذ العقد الذي صدرت الصكوك على أساسه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إذا كانت المؤسسة المالية ، أو غيرها من القطاع الحكومي أو الخيري ، مدير إصدار فإنه يمثل حملة الصكوك ويرعة مصالحهم ، ويحمي حقوقهم وينفذ عقودهم في مواجهة المستثمرين ، ويقوم بعمليات الإصدار وتنظيم عمليات التداول والتخارج والاسترداد والتصفية حسب القوانين واللوائح المنظ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إذا كانت مصدره وطرفاً في العقد مثل أن تكون مضارباً ، أو صانعاً ، فإنها تجميع بين حقوق والتزامات هذه الصفة مع صفة الإصدار</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6" name="Rectangle 21"/>
          <p:cNvSpPr/>
          <p:nvPr/>
        </p:nvSpPr>
        <p:spPr>
          <a:xfrm>
            <a:off x="4944960" y="533520"/>
            <a:ext cx="447372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ضمانات صكوك الاستثمار :</a:t>
            </a:r>
            <a:endParaRPr b="0" lang="en-US" sz="2800" spc="-1" strike="noStrike">
              <a:solidFill>
                <a:srgbClr val="000000"/>
              </a:solidFill>
              <a:latin typeface="Arial"/>
            </a:endParaRPr>
          </a:p>
        </p:txBody>
      </p:sp>
      <p:sp>
        <p:nvSpPr>
          <p:cNvPr id="77" name="Rectangle 23"/>
          <p:cNvSpPr/>
          <p:nvPr/>
        </p:nvSpPr>
        <p:spPr>
          <a:xfrm>
            <a:off x="549360" y="1038240"/>
            <a:ext cx="824076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ا شك ان أهم فارق بين صكوك الاستثمار والسندات هو أن الأخيرة مضمونة بقيمتها إضافة إلى ضمان الفوائد المحددة لها ، في حين ان الاستثمار في الفقه الإسلامي يقوم على قاعدة المشاركة في الغرم والغنم (الغنم بالغرم) ولذلك كانت مسألة ضمان الصكوك مسألة في غاية من الأهمية والخطورة ، بل إن الكثيرين من الاقتصاديين الوضعيين يعتبرون أن ذلك أهم عائق أمام تطوير صكوك الاستثمار الإسلامية ، حيث إن حملتها يخافون من الخسائر في حين أن حملة السندات آمنون مطمئنون ، حيث الضمان لرأس المال ، والفوائد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للجواب عن ذلك نقول :</a:t>
            </a:r>
            <a:endParaRPr b="0" lang="en-US" sz="1800" spc="-1" strike="noStrike">
              <a:solidFill>
                <a:srgbClr val="000000"/>
              </a:solidFill>
              <a:latin typeface="Arial"/>
            </a:endParaRPr>
          </a:p>
          <a:p>
            <a:pPr algn="r" rtl="1">
              <a:tabLst>
                <a:tab algn="l" pos="0"/>
                <a:tab algn="l" pos="130176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إن القاعدة الإسلامية في الاستثمار القائمة على المشاركة في الغرم والغنم والمعتمدة على النصوص الشرعية والاجماع ، قاعدة من أعدل القواعد في تحقيق المساواة بين المضارب ، ورب المال ، أو بين المشاركين ، (أو المستثمرين بصورة عامة) وذلك لأن ضمان رأس المال وحده ، أو مع الفائدة على طرف واحد ظلم له لاحتمال تعرضه لمخاطر كبيرة وخسائر عظيمة دون تقصير منه ، بل قد تكون الأسباب خارجة عن إرادته ، وحينئذٍ لم تعد المساواة بين الطرفين ، بل أصبح القانون بذلك ينحاز إلى صاحب رأس المال على حساب العامل ، ولذلك سمى الله تعالى الربا بالظلم في قوله تعالى (فإن تبتم فلكم رؤوس أموالكم لا تظلمون ولا تظلمون) ، إضافة إلى أنه في عقيدة المسلم وفي الواقع الحقيقي أن الربا محق وبلاء على المرابي ، سواء كان في ماله أو في سعادته ، فقال الله تعالى : (يمحق الله الربا ويربي الصدقات والله لا يحب كل كفار أثيم) . </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Rectangle 21"/>
          <p:cNvSpPr/>
          <p:nvPr/>
        </p:nvSpPr>
        <p:spPr>
          <a:xfrm>
            <a:off x="0" y="-549000"/>
            <a:ext cx="9418680" cy="7500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أن الضمانات التي أقرها الفقه الإسلامي للاستثمار 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ـ ضمان المضارب أو نحوه من القائمين بالاستثمار في حالة التعدي ، او التقصير أو مخالفة القيود والالتزامات التي فرضها الشارع على المضارب في عقوده وتصرفاته ، أو إدارته للمشروع أو مخالفته ل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ـ ضرورة القيام بكل ما تقتضيه مستجدات كل عصر مثل دراسات الجدوى والاعتماد على أهل الخبرة ونحو ذلك ، بحيث إذا خالف هذه الأمور التي تقتضيها قواعد الاستثمار في عصرنا الحاضر فإنه يكون ضامن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ـ جعل إثبات عدم التعدي ، أو التقصير ، أو مخالفة الشروط أو العرف التجاري من طرف المضارب في حالة وجود قرائن تثير الريب حوله ، بحيث إذا لم يستطع إثبات ذلك فإنه يكون ضامناً ، وهذا عند المالكية حيث يشترطون في تصديق المضارب دعوى الخسارة شرط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حدهما : أن يحلف اليمين على أنه قد خس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ثانيهما : ألا توجد قرائن تكذب هذه الدعوى ، جاء في الشرح الكبير : (والقول للعامل ...في دعوى خسره بيمين ولو غير متهم على المشهور إلاّ لقرينة تكذبه) وجاء في الحاشية : (قوله : إلاّ لقرينة تكذبه بأن سأل تجار بلد تلك السلع هل خسرت في زمان كذا أو لا ، فإن أجابوا بعدم الخسارة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يقول الدكتور حسان حامد : (ولا شك أن دراسة الجدوى المقدمة من المضارب والبيانات التي بنيت عليها هذه الدراسة وهي تتضمن الربح المتوقع من المشروع والتي أشار إليها في نشرة الإصدار تعد قرينة قوية على بطلان دعوى الخسارة المجردة عن الدليل ، وهنا يحكم عليه بضمان الربح المعلق المتوقع في دراسة الجدوى حتى يقدم هو الدليل على الخسارة التي يدعيها ، ويثبت أن ما ورد في الدراسة لم يتحقق لسبب لا يد له فيه ، ولظروف طارئة لم يكن من الممكن توقعها ، أو قياس نتائج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ـ ترتيب احتياطي لمواجهة مخاطر الاستثما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ـ ضمان طرف ثالث ـ كما أقره مجمع الفقه الإسلامي الدولي السابق ـ سواء أكان دولة أم غير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ـ القيام بالرهن والكفالة والتوثيقات لحالات التعدي أو التقصير او مخالفة الشروط ، او العرف التجار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cs typeface="Simplified Arabic"/>
              </a:rPr>
              <a:t>ـ تأمين مخاطر الاستثمار لدى شركة تأمين إسلامية ، وعلى الديون المشكوك في تحصيلها</a:t>
            </a:r>
            <a:r>
              <a:rPr b="0" lang="ar-KW"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أو ترتيب صندوق خاص بالجهة المصدرة وحدها أو بالتعاون مع المؤسسات الاستثمارية .</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1" name="Rectangle 21"/>
          <p:cNvSpPr/>
          <p:nvPr/>
        </p:nvSpPr>
        <p:spPr>
          <a:xfrm>
            <a:off x="1177920" y="762120"/>
            <a:ext cx="792648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القوانين المنظمة للسندات ، وتجارب بعض الدول : </a:t>
            </a:r>
            <a:endParaRPr b="0" lang="en-US" sz="3600" spc="-1" strike="noStrike">
              <a:solidFill>
                <a:srgbClr val="000000"/>
              </a:solidFill>
              <a:latin typeface="Arial"/>
            </a:endParaRPr>
          </a:p>
        </p:txBody>
      </p:sp>
      <p:sp>
        <p:nvSpPr>
          <p:cNvPr id="82" name="Rectangle 24"/>
          <p:cNvSpPr/>
          <p:nvPr/>
        </p:nvSpPr>
        <p:spPr>
          <a:xfrm>
            <a:off x="1052640" y="1316520"/>
            <a:ext cx="7974000" cy="326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توجد في معظم الدول قوانين تنظم عمليات سندات القرض من حيث الإصدار والتداول ، وكل ما يتعلق بها من الناحية القانونية ، وان كان بعضها لا يشترط أن تكون السندات ربوية ، ولكن أكثرها لا تنظ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ع كل ذلك فإن معظم القوانين السائدة في عالمنا الإسلامي لا زالت تصر على تنظيم سندات القرض بفائدة فقط ، غير أن بعضاً منها قد نظم الصكوك أيض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ومن الدول التي بادرت بإصدار قانون لتنظيم الصكوك ، او سندات المقارضة ، المملكة الأردنية الهاشمية من خلال قانون سندات المقارضة رقم (</a:t>
            </a:r>
            <a:r>
              <a:rPr b="0" lang="ar-KW" sz="1800" spc="-1" strike="noStrike">
                <a:solidFill>
                  <a:srgbClr val="000000"/>
                </a:solidFill>
                <a:latin typeface="Arial"/>
                <a:ea typeface="Simplified Arabic"/>
              </a:rPr>
              <a:t>10</a:t>
            </a:r>
            <a:r>
              <a:rPr b="0" lang="ar-KW" sz="1800" spc="-1" strike="noStrike">
                <a:solidFill>
                  <a:srgbClr val="000000"/>
                </a:solidFill>
                <a:latin typeface="Arial"/>
                <a:ea typeface="Simplified Arabic"/>
              </a:rPr>
              <a:t>) لسنة </a:t>
            </a:r>
            <a:r>
              <a:rPr b="0" lang="ar-KW" sz="1800" spc="-1" strike="noStrike">
                <a:solidFill>
                  <a:srgbClr val="000000"/>
                </a:solidFill>
                <a:latin typeface="Arial"/>
                <a:ea typeface="Simplified Arabic"/>
              </a:rPr>
              <a:t>1981</a:t>
            </a:r>
            <a:r>
              <a:rPr b="0" lang="ar-KW" sz="1800" spc="-1" strike="noStrike">
                <a:solidFill>
                  <a:srgbClr val="000000"/>
                </a:solidFill>
                <a:latin typeface="Arial"/>
                <a:ea typeface="Simplified Arabic"/>
              </a:rPr>
              <a:t> . </a:t>
            </a:r>
            <a:r>
              <a:rPr b="0" lang="ar-KW" sz="1400" spc="-1" strike="noStrike">
                <a:solidFill>
                  <a:srgbClr val="000000"/>
                </a:solidFill>
                <a:latin typeface="Arial"/>
                <a:cs typeface="Simplified Arabic"/>
              </a:rPr>
              <a:t>انظر : بحث أ.د. عبدالسلام العبادي ، المنشور في مجلة مجمع الفقه الإسلامي الدولي ، ع</a:t>
            </a:r>
            <a:r>
              <a:rPr b="0" lang="ar-KW" sz="1400" spc="-1" strike="noStrike">
                <a:solidFill>
                  <a:srgbClr val="000000"/>
                </a:solidFill>
                <a:latin typeface="Arial"/>
                <a:ea typeface="Simplified Arabic"/>
              </a:rPr>
              <a:t>4</a:t>
            </a:r>
            <a:r>
              <a:rPr b="0" lang="ar-KW" sz="1400" spc="-1" strike="noStrike">
                <a:solidFill>
                  <a:srgbClr val="000000"/>
                </a:solidFill>
                <a:latin typeface="Arial"/>
                <a:ea typeface="Simplified Arabic"/>
              </a:rPr>
              <a:t> ج</a:t>
            </a:r>
            <a:r>
              <a:rPr b="0" lang="ar-KW" sz="1400" spc="-1" strike="noStrike">
                <a:solidFill>
                  <a:srgbClr val="000000"/>
                </a:solidFill>
                <a:latin typeface="Arial"/>
                <a:ea typeface="Simplified Arabic"/>
              </a:rPr>
              <a:t>3</a:t>
            </a:r>
            <a:r>
              <a:rPr b="0" lang="ar-KW" sz="1400" spc="-1" strike="noStrike">
                <a:solidFill>
                  <a:srgbClr val="000000"/>
                </a:solidFill>
                <a:latin typeface="Arial"/>
                <a:ea typeface="Simplified Arabic"/>
              </a:rPr>
              <a:t> ص</a:t>
            </a:r>
            <a:r>
              <a:rPr b="0" lang="ar-KW" sz="1400" spc="-1" strike="noStrike">
                <a:solidFill>
                  <a:srgbClr val="000000"/>
                </a:solidFill>
                <a:latin typeface="Arial"/>
                <a:ea typeface="Simplified Arabic"/>
              </a:rPr>
              <a:t>196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1998</a:t>
            </a:r>
            <a:r>
              <a:rPr b="0" lang="ar-KW" sz="1400" spc="-1" strike="noStrike">
                <a:solidFill>
                  <a:srgbClr val="000000"/>
                </a:solidFill>
                <a:latin typeface="Arial"/>
                <a:ea typeface="Simplified Arabic"/>
              </a:rPr>
              <a:t> ، ويراجع كذلك البحوث الأخرى المنشورة حول الصكوك في المجلة المذكورة ص</a:t>
            </a:r>
            <a:r>
              <a:rPr b="0" lang="ar-KW" sz="1400" spc="-1" strike="noStrike">
                <a:solidFill>
                  <a:srgbClr val="000000"/>
                </a:solidFill>
                <a:latin typeface="Arial"/>
                <a:ea typeface="Simplified Arabic"/>
              </a:rPr>
              <a:t>1811</a:t>
            </a:r>
            <a:r>
              <a:rPr b="0" lang="ar-KW" sz="1400" spc="-1" strike="noStrike">
                <a:solidFill>
                  <a:srgbClr val="000000"/>
                </a:solidFill>
                <a:latin typeface="Arial"/>
                <a:ea typeface="Simplified Arabic"/>
              </a:rPr>
              <a:t>-</a:t>
            </a:r>
            <a:r>
              <a:rPr b="0" lang="ar-KW" sz="1400" spc="-1" strike="noStrike">
                <a:solidFill>
                  <a:srgbClr val="000000"/>
                </a:solidFill>
                <a:latin typeface="Arial"/>
                <a:ea typeface="Simplified Arabic"/>
              </a:rPr>
              <a:t>2158</a:t>
            </a:r>
            <a:r>
              <a:rPr b="0" lang="ar-KW" sz="1400" spc="-1" strike="noStrike">
                <a:solidFill>
                  <a:srgbClr val="000000"/>
                </a:solidFill>
                <a:latin typeface="Arial"/>
                <a:ea typeface="Simplified Arabic"/>
              </a:rPr>
              <a:t> </a:t>
            </a:r>
            <a:endParaRPr b="0" lang="en-US" sz="14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 name="Rectangle 19"/>
          <p:cNvSpPr/>
          <p:nvPr/>
        </p:nvSpPr>
        <p:spPr>
          <a:xfrm>
            <a:off x="2354400" y="228600"/>
            <a:ext cx="682920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أسباب نجاح صكوك الاستثمار الإسلامية :</a:t>
            </a:r>
            <a:endParaRPr b="0" lang="en-US" sz="3600" spc="-1" strike="noStrike">
              <a:solidFill>
                <a:srgbClr val="000000"/>
              </a:solidFill>
              <a:latin typeface="Arial"/>
            </a:endParaRPr>
          </a:p>
        </p:txBody>
      </p:sp>
      <p:sp>
        <p:nvSpPr>
          <p:cNvPr id="85" name="Rectangle 21"/>
          <p:cNvSpPr/>
          <p:nvPr/>
        </p:nvSpPr>
        <p:spPr>
          <a:xfrm>
            <a:off x="314280" y="1142640"/>
            <a:ext cx="88693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هناك أسباب موجودة تساعد على إنجاح هذه التجربة الرائدة م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حسّ الإسلامي والعاطفة الإسلامية والصحوة المباركة ، والعقي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بنوك الإسلامية التي زاد عددها على أربعمائة بنك إسلامي وآلاف الفروع </a:t>
            </a:r>
            <a:endParaRPr b="0" lang="en-US" sz="1800" spc="-1" strike="noStrike">
              <a:solidFill>
                <a:srgbClr val="000000"/>
              </a:solidFill>
              <a:latin typeface="Arial"/>
            </a:endParaRPr>
          </a:p>
        </p:txBody>
      </p:sp>
      <p:sp>
        <p:nvSpPr>
          <p:cNvPr id="86" name="Rectangle 22"/>
          <p:cNvSpPr/>
          <p:nvPr/>
        </p:nvSpPr>
        <p:spPr>
          <a:xfrm>
            <a:off x="314280" y="2071080"/>
            <a:ext cx="8869320" cy="4505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u="sng">
                <a:solidFill>
                  <a:srgbClr val="000000"/>
                </a:solidFill>
                <a:uFillTx/>
                <a:latin typeface="Arial"/>
                <a:cs typeface="Simplified Arabic"/>
              </a:rPr>
              <a:t>أما الأسباب المطلوبة لنجاح هذه الأدوات فهي 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1</a:t>
            </a:r>
            <a:r>
              <a:rPr b="0" lang="ar-QA" sz="1600" spc="-1" strike="noStrike">
                <a:solidFill>
                  <a:srgbClr val="000000"/>
                </a:solidFill>
                <a:latin typeface="Arial"/>
                <a:cs typeface="Simplified Arabic"/>
              </a:rPr>
              <a:t>ـ صياغة هذه الصكوك صياغة شرعية وفنية متقنة تراعى فيها كل العناصر الفنية المشروعة الموجودة في السندات ، إضافة إلى الضوابط الشرعي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2</a:t>
            </a:r>
            <a:r>
              <a:rPr b="0" lang="ar-QA" sz="1600" spc="-1" strike="noStrike">
                <a:solidFill>
                  <a:srgbClr val="000000"/>
                </a:solidFill>
                <a:latin typeface="Arial"/>
                <a:cs typeface="Simplified Arabic"/>
              </a:rPr>
              <a:t>ـ تعاون البنوك والشركات والمؤسسات المالية بعضها مع بعض ، وكذلك مع حكومات الدول الإسلامية ، ومع المؤسسات المالية الأخرى لإنشاء سوق مال إسلامية (بورصة إسلامية) لتكون بمثابة الرئة لهذه المؤسسات ، على أن تأخذ هذه البورصة كل الجوانب الإدارية والفنية والتقنيات المتطورة في إدارة البورصة ما دامت لا تتعارض مع كتاب الله وسنة رسوله صلى الله عليه وسلم .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3</a:t>
            </a:r>
            <a:r>
              <a:rPr b="0" lang="ar-QA" sz="1600" spc="-1" strike="noStrike">
                <a:solidFill>
                  <a:srgbClr val="000000"/>
                </a:solidFill>
                <a:latin typeface="Arial"/>
                <a:cs typeface="Simplified Arabic"/>
              </a:rPr>
              <a:t>ـ السعي الحثيث لدى الحكومات ، وبالأخص المصارف المركزية لإصدار قوانين ولوائح منظمة للصكوك الإسلامية ، وذلك لحماية حقوق الأطراف جميعها ، ولتنظيم العلاقات ، وكيفية  التداول والتخارج والاسترداد ونحو ذلك حتى يكون المكتتبون فيها ، أو المشترون لها على علم وشفافية بكل ما يتعلق بهذه الصكوك الإسلامية من الإجراءات ، والبيانات الواجب الافصاح عنها ، ومن أهمها نشرة الإصدار وما يجب أن تتضمنه من المعلومات ، وأن لا تتجاوز قيمة الصكوك رأس مال المصد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4</a:t>
            </a:r>
            <a:r>
              <a:rPr b="0" lang="ar-QA" sz="1600" spc="-1" strike="noStrike">
                <a:solidFill>
                  <a:srgbClr val="000000"/>
                </a:solidFill>
                <a:latin typeface="Arial"/>
                <a:cs typeface="Simplified Arabic"/>
              </a:rPr>
              <a:t>ـ إيجاد معايير دقيقة للمحاسبة ، وبالتالي وجود رقابة منظمة من قبل المصارف المركزية على أساس الضوابط الشرعية الخاصة بهذه الصكوك ، وليس على أساس لوائح وسندات الدي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5</a:t>
            </a:r>
            <a:r>
              <a:rPr b="0" lang="ar-QA" sz="1600" spc="-1" strike="noStrike">
                <a:solidFill>
                  <a:srgbClr val="000000"/>
                </a:solidFill>
                <a:latin typeface="Arial"/>
                <a:cs typeface="Simplified Arabic"/>
              </a:rPr>
              <a:t>ـ عدم حصر التداول على فئة معينة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6</a:t>
            </a:r>
            <a:r>
              <a:rPr b="0" lang="ar-QA" sz="1600" spc="-1" strike="noStrike">
                <a:solidFill>
                  <a:srgbClr val="000000"/>
                </a:solidFill>
                <a:latin typeface="Arial"/>
                <a:cs typeface="Simplified Arabic"/>
              </a:rPr>
              <a:t>ـ التوعية الجماهيرية من خلال الإعلانات الجيدة المؤثرة ، والتسويق الجيد القائم على فن التسويق المعاصر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600" spc="-1" strike="noStrike">
                <a:solidFill>
                  <a:srgbClr val="000000"/>
                </a:solidFill>
                <a:latin typeface="Arial"/>
                <a:ea typeface="Simplified Arabic"/>
              </a:rPr>
              <a:t>7</a:t>
            </a:r>
            <a:r>
              <a:rPr b="0" lang="ar-QA" sz="1600" spc="-1" strike="noStrike">
                <a:solidFill>
                  <a:srgbClr val="000000"/>
                </a:solidFill>
                <a:latin typeface="Arial"/>
                <a:cs typeface="Simplified Arabic"/>
              </a:rPr>
              <a:t>ـ حرص المؤسسة الإسلامية على إنجاح المشروع </a:t>
            </a:r>
            <a:endParaRPr b="0" lang="en-US" sz="16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8" name="Rectangle 23"/>
          <p:cNvSpPr/>
          <p:nvPr/>
        </p:nvSpPr>
        <p:spPr>
          <a:xfrm>
            <a:off x="4473720" y="457200"/>
            <a:ext cx="4473360" cy="76212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ffffff"/>
                </a:solidFill>
                <a:latin typeface="Arial"/>
              </a:rPr>
              <a:t>بعض التطبيقات المعاصرة :</a:t>
            </a:r>
            <a:endParaRPr b="0" lang="en-US" sz="3600" spc="-1" strike="noStrike">
              <a:solidFill>
                <a:srgbClr val="000000"/>
              </a:solidFill>
              <a:latin typeface="Arial"/>
            </a:endParaRPr>
          </a:p>
        </p:txBody>
      </p:sp>
      <p:sp>
        <p:nvSpPr>
          <p:cNvPr id="89" name="Rectangle 24"/>
          <p:cNvSpPr/>
          <p:nvPr/>
        </p:nvSpPr>
        <p:spPr>
          <a:xfrm>
            <a:off x="0" y="1098000"/>
            <a:ext cx="934092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قد ذكرنا في البداية أن هناك عدة تجارب معاصرة منها التجربة الباكستانية منذ عام </a:t>
            </a:r>
            <a:r>
              <a:rPr b="0" lang="ar-QA" sz="1800" spc="-1" strike="noStrike">
                <a:solidFill>
                  <a:srgbClr val="000000"/>
                </a:solidFill>
                <a:latin typeface="Arial"/>
                <a:ea typeface="Simplified Arabic"/>
              </a:rPr>
              <a:t>1980</a:t>
            </a:r>
            <a:r>
              <a:rPr b="0" lang="ar-QA" sz="1800" spc="-1" strike="noStrike">
                <a:solidFill>
                  <a:srgbClr val="000000"/>
                </a:solidFill>
                <a:latin typeface="Arial"/>
                <a:ea typeface="Simplified Arabic"/>
              </a:rPr>
              <a:t> ، ولكن سندات المضاربة الباكستانية سجلت في بورصة كراتشي منذ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 وتجربة واحدة تركية عام </a:t>
            </a:r>
            <a:r>
              <a:rPr b="0" lang="ar-QA" sz="1800" spc="-1" strike="noStrike">
                <a:solidFill>
                  <a:srgbClr val="000000"/>
                </a:solidFill>
                <a:latin typeface="Arial"/>
                <a:ea typeface="Simplified Arabic"/>
              </a:rPr>
              <a:t>1984</a:t>
            </a:r>
            <a:r>
              <a:rPr b="0" lang="ar-QA" sz="1800" spc="-1" strike="noStrike">
                <a:solidFill>
                  <a:srgbClr val="000000"/>
                </a:solidFill>
                <a:latin typeface="Arial"/>
                <a:cs typeface="Simplified Arabic"/>
              </a:rPr>
              <a:t>م خاصة بتمويل جسر اليوسفور الثاني (جسر محمد الفاتح) ، وتجارب ماليزية منذ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 وتجارب بحرينية في عام </a:t>
            </a:r>
            <a:r>
              <a:rPr b="0" lang="ar-QA" sz="1800" spc="-1" strike="noStrike">
                <a:solidFill>
                  <a:srgbClr val="000000"/>
                </a:solidFill>
                <a:latin typeface="Arial"/>
                <a:ea typeface="Simplified Arabic"/>
              </a:rPr>
              <a:t>2002</a:t>
            </a:r>
            <a:r>
              <a:rPr b="0" lang="ar-QA" sz="1800" spc="-1" strike="noStrike">
                <a:solidFill>
                  <a:srgbClr val="000000"/>
                </a:solidFill>
                <a:latin typeface="Arial"/>
                <a:cs typeface="Simplified Arabic"/>
              </a:rPr>
              <a:t>م ، وتجارب قطرية من خلال بيت التمويل الكويتي ، وتجربة سعودية .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فهذه التجارب كلها تحتاج إلى دراسات فقهية تأصيلية ، ودراسات اقتصادية من حيث الجدوى الاقتصادية ، وما حققته من نتائج  ايجابية أو غيرها ، كما أنها تحتاج إلى دراسات اقتصادية شرعية تكشف عناصرة القوة والضعف ، وما يشوبها من أخطاء إن وجدت ، وتطرح البدائل الأحسن والأقوى والأزكى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نحن هنا نحاول التعليق بإيجاز على بعض هذه التجارب التي توافرت لدينا معلومات لا تعتبر كافة للحكم الدقيق عليها ، ولكن نحاول التعليق على المعلومات الصحيحة التي وصلتنا .</a:t>
            </a:r>
            <a:endParaRPr b="0" lang="en-US" sz="1800" spc="-1" strike="noStrike">
              <a:solidFill>
                <a:srgbClr val="000000"/>
              </a:solidFill>
              <a:latin typeface="Arial"/>
            </a:endParaRPr>
          </a:p>
        </p:txBody>
      </p:sp>
      <p:sp>
        <p:nvSpPr>
          <p:cNvPr id="90" name="Rectangle 25"/>
          <p:cNvSpPr/>
          <p:nvPr/>
        </p:nvSpPr>
        <p:spPr>
          <a:xfrm>
            <a:off x="314280" y="4053600"/>
            <a:ext cx="88693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فالتجربة الماليزية تقوم على أساس القانون الصادر من البرلمان عام </a:t>
            </a:r>
            <a:r>
              <a:rPr b="0" lang="ar-QA" sz="1800" spc="-1" strike="noStrike">
                <a:solidFill>
                  <a:srgbClr val="000000"/>
                </a:solidFill>
                <a:latin typeface="Arial"/>
                <a:ea typeface="Simplified Arabic"/>
              </a:rPr>
              <a:t>1983</a:t>
            </a:r>
            <a:r>
              <a:rPr b="0" lang="ar-QA" sz="1800" spc="-1" strike="noStrike">
                <a:solidFill>
                  <a:srgbClr val="000000"/>
                </a:solidFill>
                <a:latin typeface="Arial"/>
                <a:ea typeface="Simplified Arabic"/>
              </a:rPr>
              <a:t> تحت اسم : قانون الاستثمار الحكومي ولكنه مع الأسف الشديد لم يركز على الاستثمار بمعناه الشرعي القائم على المشاركة في الربح والخسارة والغرم والغنم ، وإنما يقوم ـ كما قال أحد المسؤولين بالبنك المركزي الماليزي ـ : انه يقوم على أساس القرض الحسن </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2" name="Rectangle 21"/>
          <p:cNvSpPr/>
          <p:nvPr/>
        </p:nvSpPr>
        <p:spPr>
          <a:xfrm>
            <a:off x="392040" y="181800"/>
            <a:ext cx="8477280" cy="643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نياً : تحقق لدولة قطر خلال السنوات العشر الأخيرة نمو اقتصادي هائل وتنمية شاملة في مختلف المجالات البشرية والمالية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000" spc="-1" strike="noStrike">
                <a:solidFill>
                  <a:srgbClr val="000000"/>
                </a:solidFill>
                <a:latin typeface="Arial"/>
                <a:ea typeface="Simplified Arabic"/>
              </a:rPr>
              <a:t>  وفي هذا الإطار نفسه قامت دولة قطر في عام </a:t>
            </a:r>
            <a:r>
              <a:rPr b="0" lang="ar-QA" sz="2000" spc="-1" strike="noStrike">
                <a:solidFill>
                  <a:srgbClr val="000000"/>
                </a:solidFill>
                <a:latin typeface="Arial"/>
                <a:ea typeface="Simplified Arabic"/>
              </a:rPr>
              <a:t>2003</a:t>
            </a:r>
            <a:r>
              <a:rPr b="0" lang="ar-QA" sz="2000" spc="-1" strike="noStrike">
                <a:solidFill>
                  <a:srgbClr val="000000"/>
                </a:solidFill>
                <a:latin typeface="Arial"/>
                <a:cs typeface="Simplified Arabic"/>
              </a:rPr>
              <a:t>م بإصدار صكوك إسلامية قيمتها </a:t>
            </a:r>
            <a:r>
              <a:rPr b="0" lang="ar-QA" sz="2000" spc="-1" strike="noStrike">
                <a:solidFill>
                  <a:srgbClr val="000000"/>
                </a:solidFill>
                <a:latin typeface="Arial"/>
                <a:ea typeface="Simplified Arabic"/>
              </a:rPr>
              <a:t>500</a:t>
            </a:r>
            <a:r>
              <a:rPr b="0" lang="ar-QA" sz="2000" spc="-1" strike="noStrike">
                <a:solidFill>
                  <a:srgbClr val="000000"/>
                </a:solidFill>
                <a:latin typeface="Arial"/>
                <a:ea typeface="Simplified Arabic"/>
              </a:rPr>
              <a:t> مليون دولار ومدتها سبع سنوات ، عن طريق بيت التمويل الكويتي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ثالثاً : التجربة السعودية (صكوك إجارة) لبرج زمزم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رابعاً : التجربة الترك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خامساًَ : تجربة شركة الأمين للأوراق المالية والصناديق الاستثمارية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دساً : التجربة البحرينية في الصكوك </a:t>
            </a:r>
            <a:r>
              <a:rPr b="1" lang="ar-KW"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Simplified Arabic"/>
              </a:rPr>
              <a:t>سابعاً : نجربة دبي حكومة ومصارف</a:t>
            </a:r>
            <a:r>
              <a:rPr b="1" lang="ar-KW" sz="2400" spc="-1" strike="noStrike">
                <a:solidFill>
                  <a:srgbClr val="000000"/>
                </a:solidFill>
                <a:latin typeface="Arial"/>
                <a:ea typeface="Simplified Arabic"/>
              </a:rPr>
              <a:t> .</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Rectangle 23"/>
          <p:cNvSpPr/>
          <p:nvPr/>
        </p:nvSpPr>
        <p:spPr>
          <a:xfrm>
            <a:off x="595440" y="457200"/>
            <a:ext cx="8273880" cy="9144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أنواع صكوك الاستثمار التي تحقق لنا منافع ،ومقاصد وغايات في تموي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Arial"/>
              </a:rPr>
              <a:t> البنية التحية والمشاريع الحيوية </a:t>
            </a:r>
            <a:endParaRPr b="0" lang="en-US" sz="2800" spc="-1" strike="noStrike">
              <a:solidFill>
                <a:srgbClr val="000000"/>
              </a:solidFill>
              <a:latin typeface="Arial"/>
            </a:endParaRPr>
          </a:p>
        </p:txBody>
      </p:sp>
      <p:sp>
        <p:nvSpPr>
          <p:cNvPr id="95" name="Rectangle 25"/>
          <p:cNvSpPr/>
          <p:nvPr/>
        </p:nvSpPr>
        <p:spPr>
          <a:xfrm>
            <a:off x="671400" y="916920"/>
            <a:ext cx="8229600" cy="58546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إن للصكوك الإسلامية إذا توافرت فيها الشروط والضوابط آثاراً كبيرة في التنمية الاقتصادية وفي التعمير ، وتمويل البنية التحتية ، والمشاريع الحيوية ، تتمثل في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أولاً ـ إنها تمثل موجودات من الأعيان والمنافع والخدمات ، وبالتالي فإنها تحرك السوق ، وستاعد على الدورات الاقتصادية ، في حين أن السندات تمثل الديون والائتمان فقط ، بولامناسبة فإن بداية الصكوك المعتمدة من قبل مجمع الفقه الإسلامي الدولي قد بدأت من عمان عاصمة المملكة الأردنية الهاشمية ، حيث ناقش المجمع في دورة مؤتمره الثالث في الفترة </a:t>
            </a:r>
            <a:r>
              <a:rPr b="0" lang="ar-KW" sz="1800" spc="-1" strike="noStrike">
                <a:solidFill>
                  <a:srgbClr val="000000"/>
                </a:solidFill>
                <a:latin typeface="Arial"/>
                <a:ea typeface="Simplified Arabic"/>
              </a:rPr>
              <a:t>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3</a:t>
            </a:r>
            <a:r>
              <a:rPr b="0" lang="ar-KW" sz="1800" spc="-1" strike="noStrike">
                <a:solidFill>
                  <a:srgbClr val="000000"/>
                </a:solidFill>
                <a:latin typeface="Arial"/>
                <a:cs typeface="Simplified Arabic"/>
              </a:rPr>
              <a:t>صفر</a:t>
            </a:r>
            <a:r>
              <a:rPr b="0" lang="ar-KW" sz="1800" spc="-1" strike="noStrike">
                <a:solidFill>
                  <a:srgbClr val="000000"/>
                </a:solidFill>
                <a:latin typeface="Arial"/>
                <a:ea typeface="Simplified Arabic"/>
              </a:rPr>
              <a:t>1407</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6</a:t>
            </a:r>
            <a:r>
              <a:rPr b="0" lang="ar-KW" sz="1800" spc="-1" strike="noStrike">
                <a:solidFill>
                  <a:srgbClr val="000000"/>
                </a:solidFill>
                <a:latin typeface="Arial"/>
                <a:ea typeface="Simplified Arabic"/>
              </a:rPr>
              <a:t> أكتوبر</a:t>
            </a:r>
            <a:r>
              <a:rPr b="0" lang="ar-KW" sz="1800" spc="-1" strike="noStrike">
                <a:solidFill>
                  <a:srgbClr val="000000"/>
                </a:solidFill>
                <a:latin typeface="Arial"/>
                <a:ea typeface="Simplified Arabic"/>
              </a:rPr>
              <a:t>1986</a:t>
            </a:r>
            <a:r>
              <a:rPr b="0" lang="ar-KW" sz="1800" spc="-1" strike="noStrike">
                <a:solidFill>
                  <a:srgbClr val="000000"/>
                </a:solidFill>
                <a:latin typeface="Arial"/>
                <a:cs typeface="Simplified Arabic"/>
              </a:rPr>
              <a:t>م موضوع سندات المقارضة وسندات التنمية والاستثمار ، وذلك بشأن اقتراح وزارة الأوقاف لإصدار صكوك خاصة بها ، وصدر قرار رقم (</a:t>
            </a:r>
            <a:r>
              <a:rPr b="0" lang="ar-KW" sz="1800" spc="-1" strike="noStrike">
                <a:solidFill>
                  <a:srgbClr val="000000"/>
                </a:solidFill>
                <a:latin typeface="Arial"/>
                <a:ea typeface="Simplified Arabic"/>
              </a:rPr>
              <a:t>22</a:t>
            </a:r>
            <a:r>
              <a:rPr b="0" lang="ar-KW" sz="1800" spc="-1" strike="noStrike">
                <a:solidFill>
                  <a:srgbClr val="000000"/>
                </a:solidFill>
                <a:latin typeface="Arial"/>
                <a:ea typeface="Simplified Arabic"/>
              </a:rPr>
              <a:t> (</a:t>
            </a:r>
            <a:r>
              <a:rPr b="0" lang="ar-KW" sz="1800" spc="-1" strike="noStrike">
                <a:solidFill>
                  <a:srgbClr val="000000"/>
                </a:solidFill>
                <a:latin typeface="Arial"/>
                <a:ea typeface="Simplified Arabic"/>
              </a:rPr>
              <a:t>10/3</a:t>
            </a:r>
            <a:r>
              <a:rPr b="0" lang="ar-KW" sz="1800" spc="-1" strike="noStrike">
                <a:solidFill>
                  <a:srgbClr val="000000"/>
                </a:solidFill>
                <a:latin typeface="Arial"/>
                <a:ea typeface="Simplified Arabic"/>
              </a:rPr>
              <a:t>) </a:t>
            </a:r>
            <a:r>
              <a:rPr b="0" lang="ar-KW" sz="900" spc="-1" strike="noStrike">
                <a:solidFill>
                  <a:srgbClr val="000000"/>
                </a:solidFill>
                <a:latin typeface="Arial"/>
                <a:cs typeface="Simplified Arabic"/>
              </a:rPr>
              <a:t>ـ براجع مجلة مجمع الفقه الإسلامي الدولي ع</a:t>
            </a:r>
            <a:r>
              <a:rPr b="0" lang="ar-KW" sz="900" spc="-1" strike="noStrike">
                <a:solidFill>
                  <a:srgbClr val="000000"/>
                </a:solidFill>
                <a:latin typeface="Arial"/>
                <a:ea typeface="Simplified Arabic"/>
              </a:rPr>
              <a:t>4</a:t>
            </a:r>
            <a:r>
              <a:rPr b="0" lang="ar-KW" sz="900" spc="-1" strike="noStrike">
                <a:solidFill>
                  <a:srgbClr val="000000"/>
                </a:solidFill>
                <a:latin typeface="Arial"/>
                <a:ea typeface="Simplified Arabic"/>
              </a:rPr>
              <a:t> ج</a:t>
            </a:r>
            <a:r>
              <a:rPr b="0" lang="ar-KW" sz="900" spc="-1" strike="noStrike">
                <a:solidFill>
                  <a:srgbClr val="000000"/>
                </a:solidFill>
                <a:latin typeface="Arial"/>
                <a:ea typeface="Simplified Arabic"/>
              </a:rPr>
              <a:t>3</a:t>
            </a:r>
            <a:r>
              <a:rPr b="0" lang="ar-KW" sz="900" spc="-1" strike="noStrike">
                <a:solidFill>
                  <a:srgbClr val="000000"/>
                </a:solidFill>
                <a:latin typeface="Arial"/>
                <a:ea typeface="Simplified Arabic"/>
              </a:rPr>
              <a:t> ص</a:t>
            </a:r>
            <a:r>
              <a:rPr b="0" lang="ar-KW" sz="900" spc="-1" strike="noStrike">
                <a:solidFill>
                  <a:srgbClr val="000000"/>
                </a:solidFill>
                <a:latin typeface="Arial"/>
                <a:ea typeface="Simplified Arabic"/>
              </a:rPr>
              <a:t>1809</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 بتأجيل البت فيه إلى الدورة الرابعة ، ثم صدر قرار رقم (</a:t>
            </a:r>
            <a:r>
              <a:rPr b="0" lang="ar-KW" sz="1800" spc="-1" strike="noStrike">
                <a:solidFill>
                  <a:srgbClr val="000000"/>
                </a:solidFill>
                <a:latin typeface="Arial"/>
                <a:ea typeface="Simplified Arabic"/>
              </a:rPr>
              <a:t>30</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3/4</a:t>
            </a:r>
            <a:r>
              <a:rPr b="0" lang="ar-KW" sz="1800" spc="-1" strike="noStrike">
                <a:solidFill>
                  <a:srgbClr val="000000"/>
                </a:solidFill>
                <a:latin typeface="Arial"/>
                <a:ea typeface="Simplified Arabic"/>
              </a:rPr>
              <a:t>) </a:t>
            </a:r>
            <a:r>
              <a:rPr b="0" lang="ar-KW" sz="900" spc="-1" strike="noStrike">
                <a:solidFill>
                  <a:srgbClr val="000000"/>
                </a:solidFill>
                <a:latin typeface="Arial"/>
              </a:rPr>
              <a:t>ـ براجع : المصدر السابق نفسه ـ</a:t>
            </a:r>
            <a:r>
              <a:rPr b="0" lang="ar-KW" sz="1800" spc="-1" strike="noStrike">
                <a:solidFill>
                  <a:srgbClr val="000000"/>
                </a:solidFill>
                <a:latin typeface="Arial"/>
                <a:ea typeface="Simplified Arabic"/>
              </a:rPr>
              <a:t> في دورته الرابعة المنعقدة بجدة في المملكة العربية السعودية في الفترة </a:t>
            </a:r>
            <a:r>
              <a:rPr b="0" lang="ar-KW" sz="1800" spc="-1" strike="noStrike">
                <a:solidFill>
                  <a:srgbClr val="000000"/>
                </a:solidFill>
                <a:latin typeface="Arial"/>
                <a:ea typeface="Simplified Arabic"/>
              </a:rPr>
              <a:t>18</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23</a:t>
            </a:r>
            <a:r>
              <a:rPr b="0" lang="ar-KW" sz="1800" spc="-1" strike="noStrike">
                <a:solidFill>
                  <a:srgbClr val="000000"/>
                </a:solidFill>
                <a:latin typeface="Arial"/>
                <a:ea typeface="Simplified Arabic"/>
              </a:rPr>
              <a:t> جمادى الآخرة </a:t>
            </a:r>
            <a:r>
              <a:rPr b="0" lang="ar-KW" sz="1800" spc="-1" strike="noStrike">
                <a:solidFill>
                  <a:srgbClr val="000000"/>
                </a:solidFill>
                <a:latin typeface="Arial"/>
                <a:ea typeface="Simplified Arabic"/>
              </a:rPr>
              <a:t>1408</a:t>
            </a:r>
            <a:r>
              <a:rPr b="0" lang="ar-KW" sz="1800" spc="-1" strike="noStrike">
                <a:solidFill>
                  <a:srgbClr val="000000"/>
                </a:solidFill>
                <a:latin typeface="Arial"/>
                <a:cs typeface="Simplified Arabic"/>
              </a:rPr>
              <a:t>هـ الموافق </a:t>
            </a:r>
            <a:r>
              <a:rPr b="0" lang="ar-KW" sz="1800" spc="-1" strike="noStrike">
                <a:solidFill>
                  <a:srgbClr val="000000"/>
                </a:solidFill>
                <a:latin typeface="Arial"/>
                <a:ea typeface="Simplified Arabic"/>
              </a:rPr>
              <a:t>6</a:t>
            </a:r>
            <a:r>
              <a:rPr b="0" lang="ar-KW" sz="1800" spc="-1" strike="noStrike">
                <a:solidFill>
                  <a:srgbClr val="000000"/>
                </a:solidFill>
                <a:latin typeface="Arial"/>
                <a:ea typeface="Simplified Arabic"/>
              </a:rPr>
              <a:t>-</a:t>
            </a:r>
            <a:r>
              <a:rPr b="0" lang="ar-KW" sz="1800" spc="-1" strike="noStrike">
                <a:solidFill>
                  <a:srgbClr val="000000"/>
                </a:solidFill>
                <a:latin typeface="Arial"/>
                <a:ea typeface="Simplified Arabic"/>
              </a:rPr>
              <a:t>11</a:t>
            </a:r>
            <a:r>
              <a:rPr b="0" lang="ar-KW" sz="1800" spc="-1" strike="noStrike">
                <a:solidFill>
                  <a:srgbClr val="000000"/>
                </a:solidFill>
                <a:latin typeface="Arial"/>
                <a:ea typeface="Simplified Arabic"/>
              </a:rPr>
              <a:t> إبريل</a:t>
            </a:r>
            <a:r>
              <a:rPr b="0" lang="ar-KW" sz="1800" spc="-1" strike="noStrike">
                <a:solidFill>
                  <a:srgbClr val="000000"/>
                </a:solidFill>
                <a:latin typeface="Arial"/>
                <a:ea typeface="Simplified Arabic"/>
              </a:rPr>
              <a:t>1988</a:t>
            </a:r>
            <a:r>
              <a:rPr b="0" lang="ar-KW" sz="1800" spc="-1" strike="noStrike">
                <a:solidFill>
                  <a:srgbClr val="000000"/>
                </a:solidFill>
                <a:latin typeface="Arial"/>
                <a:cs typeface="Simplified Arabic"/>
              </a:rPr>
              <a:t>م ، وقد أشرنا إلى مضمونه فيما سبق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نياً ـ إن الصكوك الإسلامية بجميع أنوعها تساعد على تمويل المشاريع طويلة الأجل ، والقصيرة ، والمتوسطة ، وبالتالي فإنها تحقق جميع الأغراض المشروعة التي تصدر سندات الدين المحرمة لتحقيقها ، بل إنها أفضل منها اقتصادياً لن الصكوك تمثل الموجودات ـ كما سبق ـ وما يترتب على ذلك من منافع اقتصادية ، إضافة إلى التحريم الشرعي .</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6" name="Rectangle 46"/>
          <p:cNvSpPr/>
          <p:nvPr/>
        </p:nvSpPr>
        <p:spPr>
          <a:xfrm>
            <a:off x="549360" y="609120"/>
            <a:ext cx="8397720" cy="1266840"/>
          </a:xfrm>
          <a:prstGeom prst="rect">
            <a:avLst/>
          </a:prstGeom>
          <a:noFill/>
          <a:ln w="0">
            <a:noFill/>
          </a:ln>
        </p:spPr>
        <p:style>
          <a:lnRef idx="0"/>
          <a:fillRef idx="0"/>
          <a:effectRef idx="0"/>
          <a:fontRef idx="minor"/>
        </p:style>
        <p:txBody>
          <a:bodyPr lIns="90000" rIns="90000" tIns="4680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cs typeface="Simplified Arabic"/>
              </a:rPr>
              <a:t>بسم الله الرحمن الرح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Simplified Arabic"/>
              </a:rPr>
              <a:t>الحمد لله رب العالمين والصلاة والسلام على سيدنا محمد وعلى آله وصحبه أجمعين</a:t>
            </a:r>
            <a:r>
              <a:rPr b="0" lang="ar-KW" sz="2000" spc="-1" strike="noStrike">
                <a:solidFill>
                  <a:srgbClr val="000000"/>
                </a:solidFill>
                <a:latin typeface="Arial"/>
                <a:ea typeface="Simplified Arabic"/>
              </a:rPr>
              <a:t> </a:t>
            </a:r>
            <a:r>
              <a:rPr b="1" lang="ar-KW" sz="2000" spc="-1" strike="noStrike">
                <a:solidFill>
                  <a:srgbClr val="000000"/>
                </a:solidFill>
                <a:latin typeface="Arial"/>
                <a:cs typeface="Simplified Arabic"/>
              </a:rPr>
              <a:t>، وبعد</a:t>
            </a:r>
            <a:r>
              <a:rPr b="0" lang="ar-KW"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47" name="Rectangle 52"/>
          <p:cNvSpPr/>
          <p:nvPr/>
        </p:nvSpPr>
        <p:spPr>
          <a:xfrm>
            <a:off x="1177920" y="2209680"/>
            <a:ext cx="7912080" cy="11430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عريف بصكوك الاستثمار ، وحكمها ، وخصائصها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والأحكام والضوابط العامة لها ، وبعض التطبيقات المعاصرة :</a:t>
            </a:r>
            <a:endParaRPr b="0" lang="en-US" sz="2800" spc="-1" strike="noStrike">
              <a:solidFill>
                <a:srgbClr val="000000"/>
              </a:solidFill>
              <a:latin typeface="Arial"/>
            </a:endParaRPr>
          </a:p>
        </p:txBody>
      </p:sp>
      <p:sp>
        <p:nvSpPr>
          <p:cNvPr id="48" name="Rectangle 53"/>
          <p:cNvSpPr/>
          <p:nvPr/>
        </p:nvSpPr>
        <p:spPr>
          <a:xfrm>
            <a:off x="1177920" y="3581280"/>
            <a:ext cx="7848720" cy="2044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2000" spc="-1" strike="noStrike" u="sng">
                <a:solidFill>
                  <a:srgbClr val="000000"/>
                </a:solidFill>
                <a:uFillTx/>
                <a:latin typeface="Arial"/>
                <a:cs typeface="Simplified Arabic"/>
              </a:rPr>
              <a:t>وصكوك الاستثمار :</a:t>
            </a:r>
            <a:r>
              <a:rPr b="0" lang="ar-QA" sz="1800" spc="-1" strike="noStrike">
                <a:solidFill>
                  <a:srgbClr val="000000"/>
                </a:solidFill>
                <a:latin typeface="Arial"/>
                <a:ea typeface="Simplified Arabic"/>
              </a:rPr>
              <a:t> جاء تعريفها في المعيار الشرعي رقم (</a:t>
            </a:r>
            <a:r>
              <a:rPr b="0" lang="ar-QA" sz="1800" spc="-1" strike="noStrike">
                <a:solidFill>
                  <a:srgbClr val="000000"/>
                </a:solidFill>
                <a:latin typeface="Arial"/>
                <a:ea typeface="Simplified Arabic"/>
              </a:rPr>
              <a:t>17</a:t>
            </a:r>
            <a:r>
              <a:rPr b="0" lang="ar-QA" sz="1800" spc="-1" strike="noStrike">
                <a:solidFill>
                  <a:srgbClr val="000000"/>
                </a:solidFill>
                <a:latin typeface="Arial"/>
                <a:ea typeface="Simplified Arabic"/>
              </a:rPr>
              <a:t>) الخاص بصكوك الاستثمار</a:t>
            </a:r>
            <a:r>
              <a:rPr b="1" lang="ar-QA" sz="1800" spc="-1" strike="noStrike">
                <a:solidFill>
                  <a:srgbClr val="000000"/>
                </a:solidFill>
                <a:latin typeface="Arial"/>
                <a:ea typeface="Simplified Arabic"/>
              </a:rPr>
              <a:t> </a:t>
            </a:r>
            <a:r>
              <a:rPr b="0" lang="ar-QA" sz="1800" spc="-1" strike="noStrike">
                <a:solidFill>
                  <a:srgbClr val="000000"/>
                </a:solidFill>
                <a:latin typeface="Arial"/>
                <a:cs typeface="Simplified Arabic"/>
              </a:rPr>
              <a:t>، كالآتي :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هي وثائق متساوية القيمة تمثل حصصاً شائعة في ملكية أعيان أو منافع أو خدمات أو في موجودات مشروع معين أو نشاط استثماري خاص ، وذلك بعد تحصيل قيمة الصكوك وقفل باب الاكتتاب وبدء استخدامها فيماأصدرت من أجله .</a:t>
            </a:r>
            <a:endParaRPr b="0" lang="en-US" sz="1800" spc="-1" strike="noStrike">
              <a:solidFill>
                <a:srgbClr val="000000"/>
              </a:solidFill>
              <a:latin typeface="Arial"/>
            </a:endParaRPr>
          </a:p>
          <a:p>
            <a:pPr algn="r" rtl="1">
              <a:tabLst>
                <a:tab algn="l" pos="0"/>
                <a:tab algn="l" pos="3059280"/>
                <a:tab algn="l" pos="3508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عرف هذه الصكوك في هذا المعيار بالصكوك الاستثمارية تمييزاً لها عن الأسهم وسندات القرض .</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Rectangle 4"/>
          <p:cNvSpPr/>
          <p:nvPr/>
        </p:nvSpPr>
        <p:spPr>
          <a:xfrm>
            <a:off x="0" y="-134640"/>
            <a:ext cx="9282240" cy="64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ea typeface="Simplified Arabic"/>
              </a:rPr>
              <a:t>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ثالثاً ـ إنها وسيلة ناجعة كذلك لجذب المذخرات ، وتجميع الأموال اللازمة لتمويل المشروعات في مختلف الوجوه النافعة خدمة للاقتصاد الوطن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cs typeface="Simplified Arabic"/>
              </a:rPr>
              <a:t>رابعاً ـ المساهمة في انتقال رؤوس الأموال من الدول الإسلامية الغنية إلى الدول الفقيرة ، ولا سيما إذا أصدرتها مؤسسات مالية إسلامية محترمة مثل بنك التنمية الإسلامي ، حيث يحقق ذلك انتقال رؤوس الأموال بين الدول الإسلامية بهدف دعم مشاريع التنمية التي يمكن أن تقام هنا وهناك في رحاب العالم الإسلامية ، حيث يمكن من خلال الصكوك الإسلامية القائمة على الدراسات الجادة المبينة للجدوى الاقتصادية تنمية العالم الإسلامي وغيره </a:t>
            </a:r>
            <a:r>
              <a:rPr b="0" lang="ar-KW" sz="900" spc="-1" strike="noStrike">
                <a:solidFill>
                  <a:srgbClr val="000000"/>
                </a:solidFill>
                <a:latin typeface="Arial"/>
                <a:cs typeface="Simplified Arabic"/>
              </a:rPr>
              <a:t>ـ يراجع : أ.د. عبدالسلام العبادي : المرجع السابق نفسه ص</a:t>
            </a:r>
            <a:r>
              <a:rPr b="0" lang="ar-KW" sz="900" spc="-1" strike="noStrike">
                <a:solidFill>
                  <a:srgbClr val="000000"/>
                </a:solidFill>
                <a:latin typeface="Arial"/>
                <a:ea typeface="Simplified Arabic"/>
              </a:rPr>
              <a:t>1969</a:t>
            </a:r>
            <a:r>
              <a:rPr b="0" lang="ar-KW" sz="900" spc="-1" strike="noStrike">
                <a:solidFill>
                  <a:srgbClr val="000000"/>
                </a:solidFill>
                <a:latin typeface="Arial"/>
                <a:ea typeface="Simplified Arabic"/>
              </a:rPr>
              <a:t>-</a:t>
            </a:r>
            <a:r>
              <a:rPr b="0" lang="ar-KW" sz="900" spc="-1" strike="noStrike">
                <a:solidFill>
                  <a:srgbClr val="000000"/>
                </a:solidFill>
                <a:latin typeface="Arial"/>
                <a:ea typeface="Simplified Arabic"/>
              </a:rPr>
              <a:t>1970</a:t>
            </a:r>
            <a:r>
              <a:rPr b="0" lang="ar-KW" sz="900" spc="-1" strike="noStrike">
                <a:solidFill>
                  <a:srgbClr val="000000"/>
                </a:solidFill>
                <a:latin typeface="Arial"/>
                <a:ea typeface="Simplified Arabic"/>
              </a:rPr>
              <a:t> ـ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للصكوك أنواع كثيرة ، حيث يمكن أن نرتب من كل عقد شرعي صكوكاً ، ولكن أهمها ما يأتي :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إجارة بنوعيها ( التشغيلي والتمويلي )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المشاركة بأنواعها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لك</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أموال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ضارب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 صكوك شركة المساقا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زارعة </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صكوك شركة المغارسة</a:t>
            </a:r>
            <a:endParaRPr b="0" lang="en-US" sz="1800" spc="-1" strike="noStrike">
              <a:solidFill>
                <a:srgbClr val="000000"/>
              </a:solidFill>
              <a:latin typeface="Arial"/>
            </a:endParaRPr>
          </a:p>
          <a:p>
            <a:pPr marL="343080" indent="-3430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3</a:t>
            </a:r>
            <a:r>
              <a:rPr b="0" lang="ar-KW" sz="1800" spc="-1" strike="noStrike">
                <a:solidFill>
                  <a:srgbClr val="000000"/>
                </a:solidFill>
                <a:latin typeface="Arial"/>
              </a:rPr>
              <a:t>. صكوك الاستصناع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وهكذا ....</a:t>
            </a:r>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1"/>
          <p:cNvSpPr/>
          <p:nvPr/>
        </p:nvSpPr>
        <p:spPr>
          <a:xfrm>
            <a:off x="628560" y="304920"/>
            <a:ext cx="8555040" cy="2133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هذا والله أعلم</a:t>
            </a:r>
            <a:br>
              <a:rPr sz="2400"/>
            </a:br>
            <a:r>
              <a:rPr b="1" lang="ar-SA" sz="2400" spc="-1" strike="noStrike">
                <a:solidFill>
                  <a:srgbClr val="000000"/>
                </a:solidFill>
                <a:latin typeface="Arial"/>
                <a:cs typeface="Traditional Arabic"/>
              </a:rPr>
              <a:t>وهو المسؤول أن يوفقنا للخير</a:t>
            </a:r>
            <a:br>
              <a:rPr sz="2400"/>
            </a:br>
            <a:r>
              <a:rPr b="1" lang="ar-SA" sz="2400" spc="-1" strike="noStrike">
                <a:solidFill>
                  <a:srgbClr val="000000"/>
                </a:solidFill>
                <a:latin typeface="Arial"/>
                <a:ea typeface="Traditional Arabic"/>
              </a:rPr>
              <a:t> ويعصمنا عن الخطأ والزلل في العقيدة والقول والعمل </a:t>
            </a:r>
            <a:br>
              <a:rPr sz="2400"/>
            </a:br>
            <a:r>
              <a:rPr b="1" lang="ar-SA" sz="2400" spc="-1" strike="noStrike">
                <a:solidFill>
                  <a:srgbClr val="000000"/>
                </a:solidFill>
                <a:latin typeface="Arial"/>
                <a:ea typeface="Traditional Arabic"/>
              </a:rPr>
              <a:t> وأن يلبس أعمالنا كلها ثوب الاخلاص ، والتقى</a:t>
            </a:r>
            <a:br>
              <a:rPr sz="2400"/>
            </a:br>
            <a:r>
              <a:rPr b="1" lang="ar-SA" sz="2400" spc="-1" strike="noStrike">
                <a:solidFill>
                  <a:srgbClr val="000000"/>
                </a:solidFill>
                <a:latin typeface="Arial"/>
                <a:ea typeface="Traditional Arabic"/>
              </a:rPr>
              <a:t> إنه حسبنا ومولانا فنعم المولى ونعم النصير</a:t>
            </a:r>
            <a:endParaRPr b="0" lang="en-US" sz="2400" spc="-1" strike="noStrike">
              <a:solidFill>
                <a:srgbClr val="000000"/>
              </a:solidFill>
              <a:latin typeface="Arial"/>
            </a:endParaRPr>
          </a:p>
        </p:txBody>
      </p:sp>
      <p:sp>
        <p:nvSpPr>
          <p:cNvPr id="99" name="Rectangle 23"/>
          <p:cNvSpPr/>
          <p:nvPr/>
        </p:nvSpPr>
        <p:spPr>
          <a:xfrm>
            <a:off x="0" y="6095880"/>
            <a:ext cx="9261360" cy="762120"/>
          </a:xfrm>
          <a:prstGeom prst="rect">
            <a:avLst/>
          </a:prstGeom>
          <a:gradFill rotWithShape="0">
            <a:gsLst>
              <a:gs pos="0">
                <a:srgbClr val="ffffff"/>
              </a:gs>
              <a:gs pos="100000">
                <a:srgbClr val="a4fab2"/>
              </a:gs>
            </a:gsLst>
            <a:lin ang="1890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Box 16475 Doha, Qatar, Tel :(974) 4832319 ,Fax: 4832377,</a:t>
            </a:r>
            <a:br>
              <a:rPr sz="1600"/>
            </a:br>
            <a:r>
              <a:rPr b="0" lang="en-US" sz="1600" spc="-1" strike="noStrike">
                <a:solidFill>
                  <a:srgbClr val="000000"/>
                </a:solidFill>
                <a:latin typeface="Times New Roman"/>
                <a:ea typeface="Times New Roman"/>
              </a:rPr>
              <a:t> Mob. : (974) 5509672 Email</a:t>
            </a:r>
            <a:r>
              <a:rPr b="0" lang="en-US" sz="1600" spc="-1" strike="noStrike">
                <a:solidFill>
                  <a:srgbClr val="000000"/>
                </a:solidFill>
                <a:latin typeface="Times New Roman"/>
                <a:ea typeface="Times New Roman"/>
              </a:rPr>
              <a:t> : </a:t>
            </a:r>
            <a:r>
              <a:rPr b="0" lang="en-US" sz="1600" spc="-1" strike="noStrike" u="sng">
                <a:solidFill>
                  <a:srgbClr val="009999"/>
                </a:solidFill>
                <a:uFillTx/>
                <a:latin typeface="Times New Roman"/>
                <a:ea typeface="Times New Roman"/>
                <a:hlinkClick r:id="rId1"/>
              </a:rPr>
              <a:t>draliq@hotmail.com</a:t>
            </a:r>
            <a:endParaRPr b="0" lang="en-US" sz="1600" spc="-1" strike="noStrike">
              <a:solidFill>
                <a:srgbClr val="000000"/>
              </a:solidFill>
              <a:latin typeface="Arial"/>
            </a:endParaRPr>
          </a:p>
        </p:txBody>
      </p:sp>
      <p:sp>
        <p:nvSpPr>
          <p:cNvPr id="100" name="Rectangle 27"/>
          <p:cNvSpPr/>
          <p:nvPr/>
        </p:nvSpPr>
        <p:spPr>
          <a:xfrm>
            <a:off x="1569960" y="3429000"/>
            <a:ext cx="65930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4f83"/>
                </a:solidFill>
                <a:latin typeface="Times New Roman"/>
                <a:ea typeface="Times New Roman"/>
              </a:rPr>
              <a:t>www.qaradaghi.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0" name="Rectangle 7"/>
          <p:cNvSpPr/>
          <p:nvPr/>
        </p:nvSpPr>
        <p:spPr>
          <a:xfrm>
            <a:off x="2746440" y="533520"/>
            <a:ext cx="66722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فروق الأساسية بين الصكوك الاستثمارية والسندات :</a:t>
            </a:r>
            <a:endParaRPr b="0" lang="en-US" sz="2800" spc="-1" strike="noStrike">
              <a:solidFill>
                <a:srgbClr val="000000"/>
              </a:solidFill>
              <a:latin typeface="Arial"/>
            </a:endParaRPr>
          </a:p>
        </p:txBody>
      </p:sp>
      <p:sp>
        <p:nvSpPr>
          <p:cNvPr id="51" name="Rectangle 18"/>
          <p:cNvSpPr/>
          <p:nvPr/>
        </p:nvSpPr>
        <p:spPr>
          <a:xfrm>
            <a:off x="549360" y="1175040"/>
            <a:ext cx="863424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فالفروق الجوهرية بين السندات والصكوك الاستثمارية تكمن في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cs typeface="Simplified Arabic"/>
              </a:rPr>
              <a:t>ـ السندات بجميع أنواعها تمثل ديناً في ذمة المدين مصدر الصك لصالح دائنه (حامل الصك) فالعلاقة بينهما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الصكوك الاستثمارية فهي تمثل حصة شائعة من جميع موجودات المشروع ، وبالتالي فالعلاقة بين صاحب الصك ، والمصدر هو علاقة المشاركة وليست علاقة المداي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cs typeface="Simplified Arabic"/>
              </a:rPr>
              <a:t>ـ السندات تحدد لها فائدة ثابتة ، أو متغيرة من زمن إلى آخر ، ولذلك صدرت قرارات المجامع الفقهية بحرمة السندات لأن تلك الفائدة هي الربا المحر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أما صكوك الاستثمار فليست لها فائدة ثابتة أو متغيرة ، وإنما الأمر فيها إذا تحقق لها الربح فهي تأخذ نصيبها منه ، وإذا خسرت الشركة فإن الموجودات التي يمثلها الصك الاستثماري قد قلت ، أي ان الصك الاستثماري خاسر بنسبة نصيبه من الخس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الخلاصة أن الصك الاستثماري يتأثر بموجودات المشروع سلباً وإيجاباً ، ربحاً وخسارة ، في حين أن السند لا يتأثر بأي شيء ، وإنما يأخذ صاحبه أصل الدين مع الفائدة المقررة المتفق علي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cs typeface="Simplified Arabic"/>
              </a:rPr>
              <a:t>ـ عند تصفية المشروع يكون لصاحب السند الأولوية في الحصول على قيمة السند وفوائده المتفق عليها ، أما الصك الاستثماري فليس له الأولوية ، وإنما تصرف له نسبته مما يتبقى من موجودات المشروع بعد سداد الديون ، أي أن موجودات المشروع ملك لأصحاب الصكوك وتعود إليهم .</a:t>
            </a: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 name="Rectangle 7"/>
          <p:cNvSpPr/>
          <p:nvPr/>
        </p:nvSpPr>
        <p:spPr>
          <a:xfrm>
            <a:off x="2746440" y="914400"/>
            <a:ext cx="6514920" cy="60948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تأصيل الشرعي للتصكيك (صياغة الصكوك):</a:t>
            </a:r>
            <a:endParaRPr b="0" lang="en-US" sz="2800" spc="-1" strike="noStrike">
              <a:solidFill>
                <a:srgbClr val="000000"/>
              </a:solidFill>
              <a:latin typeface="Arial"/>
            </a:endParaRPr>
          </a:p>
        </p:txBody>
      </p:sp>
      <p:sp>
        <p:nvSpPr>
          <p:cNvPr id="54" name="Rectangle 16"/>
          <p:cNvSpPr/>
          <p:nvPr/>
        </p:nvSpPr>
        <p:spPr>
          <a:xfrm>
            <a:off x="628560" y="1768680"/>
            <a:ext cx="858528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التصكيك في حقيقته عبارة عن تقسيم ما يمثله الصك من أعيان ومنافع وحقوق وأنشطة إلى حصص متساوية ، ثم إصدار صكوك بقيمتها ، فهذا التقسيم والتجزأة لا يتعارضان مع مبادئ الشريعة الإسلامية وأحكامها ، بل يتفقان مع مبدأ الحصص الشائعة وجواز المشاركة فيها ، بل إن الشركة ـ عقد أو ملكاً ـ تعني هذه البيوع ، وأن كل شريك مشترك مع شريكه الآخر أو شركائه في الملك أو في المشروع بنسبة شائعة ، فما الأسهم ، أو صكوك الاستثمار إلاّ تعبير عن هذه النسبة الشائعة من موجودات الشركة ، أو من العين المملوكة على سبيل شركة الملك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ذلك صدر قرار المجمع ، رقم     (   /   ) بجواز ذلك فنص على أن : (</a:t>
            </a:r>
            <a:endParaRPr b="0" lang="en-US" sz="1800" spc="-1" strike="noStrike">
              <a:solidFill>
                <a:srgbClr val="000000"/>
              </a:solidFill>
              <a:latin typeface="Arial"/>
            </a:endParaRPr>
          </a:p>
          <a:p>
            <a:pPr algn="r" rtl="1">
              <a:tabLst>
                <a:tab algn="l" pos="0"/>
                <a:tab algn="l" pos="73008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صكوك الاستثمار تبع للعقد  الأساس بنظمه والموجودات التي يتمثل بها ، لذلك تطبق على الصك أحكام موجوداته فإذا كانت موجوداته مما يجوز تداولها جاز تصكيك الصكوك لها ، وإن لم تكن كذلك مثل الديون فلا يجوز تصكيكها لأجل التداول ، ولكن تصكيكها من حيث هو لا مانع منه شرعاً وحينئذٍ تطبق عليها أحكام التصرف في الديون .</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 name="Rectangle 7"/>
          <p:cNvSpPr/>
          <p:nvPr/>
        </p:nvSpPr>
        <p:spPr>
          <a:xfrm>
            <a:off x="1413000" y="228600"/>
            <a:ext cx="753408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حاجة الاقتصادية والمالية إلى إصدار الصكوك الإسلامية : </a:t>
            </a:r>
            <a:endParaRPr b="0" lang="en-US" sz="2800" spc="-1" strike="noStrike">
              <a:solidFill>
                <a:srgbClr val="000000"/>
              </a:solidFill>
              <a:latin typeface="Arial"/>
            </a:endParaRPr>
          </a:p>
        </p:txBody>
      </p:sp>
      <p:sp>
        <p:nvSpPr>
          <p:cNvPr id="57" name="Rectangle 20"/>
          <p:cNvSpPr/>
          <p:nvPr/>
        </p:nvSpPr>
        <p:spPr>
          <a:xfrm>
            <a:off x="0" y="382320"/>
            <a:ext cx="91836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مما يخفى أن السوق المالية الإسلامية تحتاج حاجة ملحة لإصدار صكوك الاستثمار الإسلامية لما يأت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 أن هذه الصكوك تساعد على النهوض بالاقتصاد الإسلامي نظرياً وعمل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أما نظرياً فهذه الصكوك الإسلامية استكمال لبقية الآليات والأدوات الاقتصادية التي يتطلبها الاقتصاد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كما أن المؤسسات المالية الإسلامية أحوج ما تكون إلى هذه الأدوات لتحقيق مقاصدها الشرعية المتنوعة لما يأت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ـ إنها تحتاج إلى مزيد من الأدوات وطرح المنتجات لكسب المستثمرين وتوزيع قاعدة الاستثمار الإسلامي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ـ إن البنوك المركزية تشترط على البنوك الإسلامية أن تدع نسبة من ودائعها ، او من الحساب الجاري في حساب البنك المركزي في كل بلد ضماناً للسيولة ونحو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ـ إن وجود هذه الأدوات الاستثمارية الإسلامية يرفع الحرج عن شريحة كبيرة من المستثمرين الذين يحتاجون إلى مثلها لأسباب اقتصادية معقو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نياً : إن هذه الأدوات الاستثمارية تساعد الدولة في تغطية عجز ميزانيتها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ثالثاً : إن وجود هذه الصكوك الاستثمارية يثرى بها السوق المالية الإسلامية (البورصة) لأنها الطرف المكمل للأسهم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رابعاً : إن هذه الصكوك تعتبر من أهم الوسائل لتنويع مصادر الموارد الذاتية وتوفير السيولة للأفراد والمؤسسات والشركات والحكوما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خامساً : إن هذه الصكوك تساعد الأفراد على توفير مدخراتهم الصغيرة وتجميعها ، وتثمينه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سادساً : إن وجود هذه الصكوك يغطي حاجة ملحة للشركات التي تحتاج إلى سيولة لأمد معقول </a:t>
            </a:r>
            <a:r>
              <a:rPr b="0" lang="ar-KW" sz="1800" spc="-1" strike="noStrike">
                <a:solidFill>
                  <a:srgbClr val="000000"/>
                </a:solidFill>
                <a:latin typeface="Arial"/>
                <a:ea typeface="Simplified Arabic"/>
              </a:rPr>
              <a:t>.</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Rectangle 7"/>
          <p:cNvSpPr/>
          <p:nvPr/>
        </p:nvSpPr>
        <p:spPr>
          <a:xfrm>
            <a:off x="3375000" y="304920"/>
            <a:ext cx="5651640" cy="457200"/>
          </a:xfrm>
          <a:prstGeom prst="rect">
            <a:avLst/>
          </a:prstGeom>
          <a:solidFill>
            <a:srgbClr val="034f83">
              <a:alpha val="84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ضوابط العامة للصكوك الاستثمارية :</a:t>
            </a:r>
            <a:endParaRPr b="0" lang="en-US" sz="2800" spc="-1" strike="noStrike">
              <a:solidFill>
                <a:srgbClr val="000000"/>
              </a:solidFill>
              <a:latin typeface="Arial"/>
            </a:endParaRPr>
          </a:p>
        </p:txBody>
      </p:sp>
      <p:sp>
        <p:nvSpPr>
          <p:cNvPr id="60" name="Rectangle 17"/>
          <p:cNvSpPr/>
          <p:nvPr/>
        </p:nvSpPr>
        <p:spPr>
          <a:xfrm>
            <a:off x="235080" y="933840"/>
            <a:ext cx="8712000" cy="5031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ضح مجمع الفقه الإسلامي الدولي في قراره (رقم </a:t>
            </a:r>
            <a:r>
              <a:rPr b="0" lang="ar-QA" sz="1800" spc="-1" strike="noStrike">
                <a:solidFill>
                  <a:srgbClr val="000000"/>
                </a:solidFill>
                <a:latin typeface="Arial"/>
                <a:ea typeface="Simplified Arabic"/>
              </a:rPr>
              <a:t>30</a:t>
            </a:r>
            <a:r>
              <a:rPr b="0" lang="ar-QA" sz="1800" spc="-1" strike="noStrike">
                <a:solidFill>
                  <a:srgbClr val="000000"/>
                </a:solidFill>
                <a:latin typeface="Arial"/>
                <a:ea typeface="Simplified Arabic"/>
              </a:rPr>
              <a:t> (</a:t>
            </a:r>
            <a:r>
              <a:rPr b="0" lang="ar-QA" sz="1800" spc="-1" strike="noStrike">
                <a:solidFill>
                  <a:srgbClr val="000000"/>
                </a:solidFill>
                <a:latin typeface="Arial"/>
                <a:ea typeface="Simplified Arabic"/>
              </a:rPr>
              <a:t>3/4</a:t>
            </a:r>
            <a:r>
              <a:rPr b="0" lang="ar-QA" sz="1800" spc="-1" strike="noStrike">
                <a:solidFill>
                  <a:srgbClr val="000000"/>
                </a:solidFill>
                <a:latin typeface="Arial"/>
                <a:ea typeface="Simplified Arabic"/>
              </a:rPr>
              <a:t>) ) الضوابط الأساسية للصكوك الاستثمارية نذكرها لأهميتها وهي :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ولاً :من حيث الصيغة المقبولة شرعاً لصكوك المقارض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1</a:t>
            </a:r>
            <a:r>
              <a:rPr b="0" lang="ar-QA" sz="1800" spc="-1" strike="noStrike">
                <a:solidFill>
                  <a:srgbClr val="000000"/>
                </a:solidFill>
                <a:latin typeface="Arial"/>
                <a:ea typeface="Simplified Arabic"/>
              </a:rPr>
              <a:t>. سندات المقارضة هي أداة استثمارية تقوم على تجزئة رأس مال القراض (المضاربة) بإصدار صكوك ملكية برأس مال المضاربة على أساس وحدات متساوية القيمة ومسجلة بأسماء أصحابها باعتبارهم يملكون حصصاً شائعة في رأس مال المضاربة وما يتحول إليه ، بنسبة ملكية كل منهم في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2</a:t>
            </a:r>
            <a:r>
              <a:rPr b="0" lang="ar-QA" sz="1800" spc="-1" strike="noStrike">
                <a:solidFill>
                  <a:srgbClr val="000000"/>
                </a:solidFill>
                <a:latin typeface="Arial"/>
                <a:ea typeface="Simplified Arabic"/>
              </a:rPr>
              <a:t>. الصورة المقبولة شرعاً لسندات المقارضة بوجه عام لا بد أن تتوافر فيها العناصر التالي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أول : أن يمثل الصك ملكية شائعة في المشروع الذي أصدرت الصكوك لإنشائه أو تمويله ، وتستمر هذه الملكية طيلة المشروع من بدايته إلى نهايته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ترتب عليها جميع الحقوق والتصرفات المقررة شرعاً للمالك في ملكه من بيع وهبة ورهن وارث وغيرها ، مع ملاحظة ان الصكوك تمثل رأس مال المضارب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ني : يقوم العقد في صكوك المضاربة على أساس أن شروط التعاقد تحددها (نشرة الإصدار) وأن (الإيجاب) يعبر عنه (الاكتتاب) في هذه الصكوك ، وأن (القبول) تعبر عنه موافقة الجهة المصدرة .</a:t>
            </a:r>
            <a:endParaRPr b="0" lang="en-US" sz="1800" spc="-1" strike="noStrike">
              <a:solidFill>
                <a:srgbClr val="000000"/>
              </a:solidFill>
              <a:latin typeface="Arial"/>
            </a:endParaRPr>
          </a:p>
          <a:p>
            <a:pPr algn="r" rtl="1">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لا بد أن تشمل نشرة الإصدار على جميع البيانات المطلوبة شرعاً في عقد القراض (المضاربة) من حيث بيان معلومية رأس المال وتوزيع الربح مع بيان الشروط الخاصة بذلك الإصدار على أن تتفق جميع الشروط مع الأحكام الشرعية .</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2" name="Rectangle 31"/>
          <p:cNvSpPr/>
          <p:nvPr/>
        </p:nvSpPr>
        <p:spPr>
          <a:xfrm>
            <a:off x="0" y="337320"/>
            <a:ext cx="9418680" cy="5854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ثالث : ان تكون صكوك المقارضة قابلة للتداول بعد انتهاء الفترة المحددة للاكتتاب باعتبار ذلك مأذوناً فيه من المضارب عند نشوء السندات مع مراعاة الضوابط الت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إذا كان مال القراض المتجمع بعد الاكتتاب وقبل المباشرة في العمل بالمال ما يزال نقوداً فإن تداول صكوك المقارضة يعتبر مبادلة نقد بنقد وتطبق عليه أحكام الصر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إذا أصبح مال القراض ديوناً تطبق على تداول صكوك المقارضة أحكام تداول التعامل بالدي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إذا صار مال القراض موجودات مختلطة من النقود والديون والأعيان والمنافع فإنه يجوز تداول صكوك المقارضة وفقاً للسعر المتراضى عليه ، على أن يكون الغالب في هذه الحالة أعياناً ومنافع ، أما إذا كان الغالب نقوداً أو ديوناً فتراعى في التداول الأحكام الشرعية التي ستبينها لائحة تفسيرية توضع وتعرض على المجمع في الدورة القاد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العنصر الرابع :   إن من يتلقى حصيلة الاكتتاب في الصكوك لاستثمارها وإقامة المشروع بها هو المضارب ، أي عامل المضاربة ولا يملك من المشروع إلاّ بمقدار ما قد يسهم به بشراء بعض الصكوك فهو رب مال بما أسهم به بالإضافة إلى أن المضارب شريك في الربح بعد تحققه بنسبة الحصة المحددة له في نشرة الإصدار وتكون ملكيته في المشروع على هذا الأساس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إن يد  المضارب على حصيلة الاكتتاب في الصكوك وعلى موجودات المشروع هي يد أمانة لا يضمن إلاّ بسبب من أسباب الضمان الشرع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3</a:t>
            </a:r>
            <a:r>
              <a:rPr b="0" lang="ar-QA" sz="1800" spc="-1" strike="noStrike">
                <a:solidFill>
                  <a:srgbClr val="000000"/>
                </a:solidFill>
                <a:latin typeface="Arial"/>
                <a:ea typeface="Simplified Arabic"/>
              </a:rPr>
              <a:t>. مع مراعاة الضوابط السابقة في التداول : يجوز تداول المقارضة في أسواق الأوراق المالية إن وجدت بالضوابط الشرعية وذلك وفقاً لظروف العرض والطلب ويخضع لإرادة العاقدين ، كما يجوز أن يتم التداول بقيام الجهة المصدرة في فترات دورية معينة بإعلان أو إيجاب يوجه إلى الجمهور تلتزم بمقتضاه خلال مدة محددة بشراء هذه الصكوك من ربح مال المضاربة بسعر معين ويحسن أن تستعين في تحديد السعر بأهل الخبرة وفقاً لظروف السوق والمركز المالي للمشروع ، كما يجوز الإعلان عن الالتزام بالشراء من غير الجهة المصدرة من مالها الخاص ، على النحو المشار إليه .</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4" name="Rectangle 19"/>
          <p:cNvSpPr/>
          <p:nvPr/>
        </p:nvSpPr>
        <p:spPr>
          <a:xfrm>
            <a:off x="157320" y="415800"/>
            <a:ext cx="8958240" cy="5306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4</a:t>
            </a:r>
            <a:r>
              <a:rPr b="0" lang="ar-QA" sz="1800" spc="-1" strike="noStrike">
                <a:solidFill>
                  <a:srgbClr val="000000"/>
                </a:solidFill>
                <a:latin typeface="Arial"/>
                <a:ea typeface="Simplified Arabic"/>
              </a:rPr>
              <a:t>. لا يجوز أن تشتمل نشرة الإصدار أو صكوك المقارضة على نص بضمان عامل المضاربة رأس المال أو ضمان ربح مقطوع أو منسوب إلى رأس المال ، فإن وقع النص على ذلك صراحة أو ضمناً بطل شرط الضمان واستحق المضارب ربح مضاربة المث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5</a:t>
            </a:r>
            <a:r>
              <a:rPr b="0" lang="ar-QA" sz="1800" spc="-1" strike="noStrike">
                <a:solidFill>
                  <a:srgbClr val="000000"/>
                </a:solidFill>
                <a:latin typeface="Arial"/>
                <a:ea typeface="Simplified Arabic"/>
              </a:rPr>
              <a:t>. لا يجوز أن تشتمل نشرة الإصدار ولا صك المقارضة الصادر بناء عليها نص يلزم بالبيع ولو كان معلقاً أو مضافاً للمستقبل ، وإنما يجوز أن يتضمن صك المقارضة وعداً بالبيع ، وفي هذه الحالة لا يتم البيع إلاّ بعقد بالقيمة المقدرة من الخبراء وبرضا الطرف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6</a:t>
            </a:r>
            <a:r>
              <a:rPr b="0" lang="ar-QA" sz="1800" spc="-1" strike="noStrike">
                <a:solidFill>
                  <a:srgbClr val="000000"/>
                </a:solidFill>
                <a:latin typeface="Arial"/>
                <a:ea typeface="Simplified Arabic"/>
              </a:rPr>
              <a:t>. لا يجوز أن تتضمن نشرة الإصدار ولا الصكوك المصدرة على أساسها نصاً يؤدي إلى احتمال قطع الشركة في الربح فإن وقع كان العقد باط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ويترتب على ذل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أ) عدم جواز اشتراط مبلغ محدد لحملة الصكوك أو صاحب المشروع في نشرة الإصدار وصكوك المقارضة الصادرة بناء عليها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ب) أن محل القسمة هو الربح بمعناه الشرعي ، وهو الزائد عن رأس المال وليس الإيراد أو الغلة ، ويعرف مقدار الربح ، إما بالتنضيض أو بالتقويم للمشروع بالنقد ، وما زاد على رأس المال عند التنضيض أو التقويم فهو الربح الذي يوزع بين حملة الصكوك وعامل المضاربة ، وفقاً لشروط العق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cs typeface="Simplified Arabic"/>
              </a:rPr>
              <a:t>ج) أن يعد حساب أرباح وخسائر للمشروع وأن يكون معلناً وتحت تصرف حملة الصكوك.</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218040" y="6245280"/>
            <a:ext cx="298260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صكوك الاستثمار ودورها في تمويل البنية التحتية،  </a:t>
            </a:r>
            <a:r>
              <a:rPr b="0" lang="en-US" sz="1400" spc="-1" strike="noStrike">
                <a:solidFill>
                  <a:srgbClr val="000000"/>
                </a:solidFill>
                <a:latin typeface="Arial"/>
              </a:rPr>
              <a:t>www.qaradaghi.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6" name="Rectangle 24"/>
          <p:cNvSpPr/>
          <p:nvPr/>
        </p:nvSpPr>
        <p:spPr>
          <a:xfrm>
            <a:off x="0" y="139320"/>
            <a:ext cx="9261360" cy="5031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7</a:t>
            </a:r>
            <a:r>
              <a:rPr b="0" lang="ar-QA" sz="1800" spc="-1" strike="noStrike">
                <a:solidFill>
                  <a:srgbClr val="000000"/>
                </a:solidFill>
                <a:latin typeface="Arial"/>
                <a:ea typeface="Simplified Arabic"/>
              </a:rPr>
              <a:t>. يستحق الربح بالظهور ، ويملك بالتنضيض أو التقويم ولا يلزم إلاّ بالقسمة ، وبالنسبة للمشروع الذي يدر إيراداً أو غلة فإنه يجوز أن توزع غلت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 وما يوزع على طرفي العقد قبل التنضيض (التصفية) يعتبر مبالغ مدفوعة تحت الحسا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8</a:t>
            </a:r>
            <a:r>
              <a:rPr b="0" lang="ar-QA" sz="1800" spc="-1" strike="noStrike">
                <a:solidFill>
                  <a:srgbClr val="000000"/>
                </a:solidFill>
                <a:latin typeface="Arial"/>
                <a:ea typeface="Simplified Arabic"/>
              </a:rPr>
              <a:t>. ليس هناك ما يمنع شرعاً من النص في نشرة الإصدار على اقتطاع نسبة معينة في نهاية كل دورة ، إما من حملة الصكوك في الأرباح في حالة وجود تنضيض دوري ، وإمام من حصصهم في الإيراد أو الغلة الموزعة تحت الحساب ووضعها في احتياطي خاص لمواجهة مخاطر خسارة رأس الما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ea typeface="Simplified Arabic"/>
              </a:rPr>
              <a:t>9</a:t>
            </a:r>
            <a:r>
              <a:rPr b="0" lang="ar-QA" sz="1800" spc="-1" strike="noStrike">
                <a:solidFill>
                  <a:srgbClr val="000000"/>
                </a:solidFill>
                <a:latin typeface="Arial"/>
                <a:ea typeface="Simplified Arabic"/>
              </a:rPr>
              <a:t>. ليس هناك ما يمنع شرعاً من النص في نشرة الإصدار أو صكوك المقارضة على وعد طرف ثالث منفصل في شخصيته وذمته المالية عن طرفي العقد بالتبرع بدون مقابل بمبلغ مخصص لجبر الخسران في مشروع معين ، على أن يكون التزاماً مستقلاً عن عقد  المضاربة بمعنى أن قيامه بالوفاء بالتزامه ليس شرطاً في نفاذ العقد وترتب أحكامه عليه بين أطرافه ومن ثم فليس لحملة الصكوك أو عامل المضاربة الدفع ببطلان المضاربة أو الامتناع عن الوفاء بالتزاماتهم بها بسبب عدم قيام المتبرع بالوفاء بما تبرع به بحجة أن هذا الالتزام كان محل اعتبار في العقد . (انتهى قرار المجمع) .</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22:48:40Z</dcterms:created>
  <dc:creator>ss</dc:creator>
  <dc:description/>
  <dc:language>en-US</dc:language>
  <cp:lastModifiedBy>WAEL MOURAD</cp:lastModifiedBy>
  <dcterms:modified xsi:type="dcterms:W3CDTF">2010-05-06T04:44:16Z</dcterms:modified>
  <cp:revision>60</cp:revision>
  <dc:subject/>
  <dc:title>Slide 1</dc:title>
</cp:coreProperties>
</file>